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1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2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3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4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" name=""/>
          <p:cNvSpPr/>
          <p:nvPr/>
        </p:nvSpPr>
        <p:spPr>
          <a:xfrm>
            <a:off x="1079640" y="4863960"/>
            <a:ext cx="10818720" cy="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47280" y="1130040"/>
            <a:ext cx="58676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47280" y="264132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1560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7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5960" indent="-399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9560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1980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772040" y="26413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695916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209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0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7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Neo Sans Intel"/>
                <a:ea typeface="Neo Sans Intel"/>
              </a:rPr>
              <a:t>Flexible Sorter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Eric Liskay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7aaab"/>
                </a:solidFill>
                <a:latin typeface="Gill Sans"/>
              </a:rPr>
              <a:t>N-Bit/N-Number Sorter</a:t>
            </a:r>
            <a:endParaRPr b="0" lang="en-US" sz="72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70080" y="2641320"/>
            <a:ext cx="702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an sort an arbitrary number of n-bit number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ased on the butterfly network architectur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ree separate registers allow for 3 sets of numbers to  be in-flight at a tim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ipeline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8521560" y="3619440"/>
          <a:ext cx="438120" cy="3509640"/>
        </p:xfrm>
        <a:graphic>
          <a:graphicData uri="http://schemas.openxmlformats.org/drawingml/2006/table">
            <a:tbl>
              <a:tblPr/>
              <a:tblGrid>
                <a:gridCol w="438120"/>
              </a:tblGrid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9296280" y="3898800"/>
            <a:ext cx="317520" cy="317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9296280" y="4775040"/>
            <a:ext cx="317520" cy="317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9296280" y="5664240"/>
            <a:ext cx="317520" cy="317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9296280" y="6540480"/>
            <a:ext cx="317520" cy="317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9995040" y="3619440"/>
          <a:ext cx="438120" cy="3509640"/>
        </p:xfrm>
        <a:graphic>
          <a:graphicData uri="http://schemas.openxmlformats.org/drawingml/2006/table">
            <a:tbl>
              <a:tblPr/>
              <a:tblGrid>
                <a:gridCol w="438120"/>
              </a:tblGrid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0" name=""/>
          <p:cNvSpPr/>
          <p:nvPr/>
        </p:nvSpPr>
        <p:spPr>
          <a:xfrm>
            <a:off x="10769760" y="4356000"/>
            <a:ext cx="317520" cy="317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10769760" y="5232240"/>
            <a:ext cx="317520" cy="317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10769760" y="6121440"/>
            <a:ext cx="317520" cy="317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1455560" y="3619440"/>
          <a:ext cx="438120" cy="3509640"/>
        </p:xfrm>
        <a:graphic>
          <a:graphicData uri="http://schemas.openxmlformats.org/drawingml/2006/table">
            <a:tbl>
              <a:tblPr/>
              <a:tblGrid>
                <a:gridCol w="438120"/>
              </a:tblGrid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 flipH="1" flipV="1">
            <a:off x="8945640" y="3832200"/>
            <a:ext cx="372960" cy="17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8940960" y="4711680"/>
            <a:ext cx="372960" cy="169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8940960" y="5600520"/>
            <a:ext cx="372960" cy="169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8940960" y="6489720"/>
            <a:ext cx="372960" cy="169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10426680" y="6083280"/>
            <a:ext cx="372960" cy="169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10426680" y="5194080"/>
            <a:ext cx="372960" cy="169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10426680" y="4305240"/>
            <a:ext cx="372960" cy="169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0439280" y="3822840"/>
            <a:ext cx="1020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10426680" y="6869160"/>
            <a:ext cx="10288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9613440" y="6730920"/>
            <a:ext cx="373320" cy="169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9613440" y="5842080"/>
            <a:ext cx="373320" cy="169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9613440" y="4952880"/>
            <a:ext cx="373320" cy="169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9613440" y="4064040"/>
            <a:ext cx="373320" cy="169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11087280" y="4572000"/>
            <a:ext cx="372960" cy="169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11087280" y="5460840"/>
            <a:ext cx="372960" cy="169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11087280" y="6350040"/>
            <a:ext cx="372960" cy="169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8940600" y="4124160"/>
            <a:ext cx="379080" cy="155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9601200" y="3860640"/>
            <a:ext cx="379440" cy="154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8940600" y="5016600"/>
            <a:ext cx="379080" cy="15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8940600" y="5905440"/>
            <a:ext cx="379080" cy="154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8940600" y="6794640"/>
            <a:ext cx="379080" cy="15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10439280" y="6388200"/>
            <a:ext cx="379440" cy="15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10439280" y="5499000"/>
            <a:ext cx="379440" cy="154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0439280" y="4610160"/>
            <a:ext cx="379440" cy="154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9601200" y="4749840"/>
            <a:ext cx="379440" cy="154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9601200" y="5638680"/>
            <a:ext cx="379440" cy="154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9601200" y="6527880"/>
            <a:ext cx="379440" cy="154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074320" y="6045120"/>
            <a:ext cx="379440" cy="154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1074320" y="5156280"/>
            <a:ext cx="379440" cy="154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11074320" y="4267080"/>
            <a:ext cx="379440" cy="154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Registers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4102200" y="4089240"/>
          <a:ext cx="438120" cy="3509640"/>
        </p:xfrm>
        <a:graphic>
          <a:graphicData uri="http://schemas.openxmlformats.org/drawingml/2006/table">
            <a:tbl>
              <a:tblPr/>
              <a:tblGrid>
                <a:gridCol w="438120"/>
              </a:tblGrid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46" name=""/>
          <p:cNvGrpSpPr/>
          <p:nvPr/>
        </p:nvGrpSpPr>
        <p:grpSpPr>
          <a:xfrm>
            <a:off x="3924360" y="3733920"/>
            <a:ext cx="5431680" cy="4647960"/>
            <a:chOff x="3924360" y="3733920"/>
            <a:chExt cx="5431680" cy="4647960"/>
          </a:xfrm>
        </p:grpSpPr>
        <p:sp>
          <p:nvSpPr>
            <p:cNvPr id="547" name=""/>
            <p:cNvSpPr/>
            <p:nvPr/>
          </p:nvSpPr>
          <p:spPr>
            <a:xfrm>
              <a:off x="3924360" y="5244840"/>
              <a:ext cx="749160" cy="748800"/>
            </a:xfrm>
            <a:prstGeom prst="ellipse">
              <a:avLst/>
            </a:prstGeom>
            <a:solidFill>
              <a:srgbClr val="909090">
                <a:alpha val="48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4672080" y="5606640"/>
              <a:ext cx="3154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2"/>
            <a:stretch/>
          </p:blipFill>
          <p:spPr>
            <a:xfrm>
              <a:off x="8051760" y="3733920"/>
              <a:ext cx="1181160" cy="35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7936560" y="7772040"/>
              <a:ext cx="1419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N-bits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13600" y="6337080"/>
              <a:ext cx="1270080" cy="901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1ec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8636040" y="7073280"/>
              <a:ext cx="0" cy="758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Min/Max Blocks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168560" y="3441600"/>
          <a:ext cx="438120" cy="3509640"/>
        </p:xfrm>
        <a:graphic>
          <a:graphicData uri="http://schemas.openxmlformats.org/drawingml/2006/table">
            <a:tbl>
              <a:tblPr/>
              <a:tblGrid>
                <a:gridCol w="438120"/>
              </a:tblGrid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55" name=""/>
          <p:cNvGrpSpPr/>
          <p:nvPr/>
        </p:nvGrpSpPr>
        <p:grpSpPr>
          <a:xfrm>
            <a:off x="1168560" y="3441600"/>
            <a:ext cx="1909080" cy="3509640"/>
            <a:chOff x="1168560" y="3441600"/>
            <a:chExt cx="1909080" cy="3509640"/>
          </a:xfrm>
        </p:grpSpPr>
        <p:sp>
          <p:nvSpPr>
            <p:cNvPr id="556" name=""/>
            <p:cNvSpPr/>
            <p:nvPr/>
          </p:nvSpPr>
          <p:spPr>
            <a:xfrm>
              <a:off x="1168560" y="3441600"/>
              <a:ext cx="1909080" cy="376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68560" y="4480560"/>
              <a:ext cx="1909080" cy="376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68560" y="5535360"/>
              <a:ext cx="1909080" cy="376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68560" y="6574680"/>
              <a:ext cx="1909080" cy="376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60" name=""/>
          <p:cNvGraphicFramePr/>
          <p:nvPr/>
        </p:nvGraphicFramePr>
        <p:xfrm>
          <a:off x="2641680" y="3441600"/>
          <a:ext cx="438120" cy="3509640"/>
        </p:xfrm>
        <a:graphic>
          <a:graphicData uri="http://schemas.openxmlformats.org/drawingml/2006/table">
            <a:tbl>
              <a:tblPr/>
              <a:tblGrid>
                <a:gridCol w="438120"/>
              </a:tblGrid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84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1168200" y="3441600"/>
            <a:ext cx="1910880" cy="3509640"/>
            <a:chOff x="1168200" y="3441600"/>
            <a:chExt cx="1910880" cy="3509640"/>
          </a:xfrm>
        </p:grpSpPr>
        <p:sp>
          <p:nvSpPr>
            <p:cNvPr id="562" name=""/>
            <p:cNvSpPr/>
            <p:nvPr/>
          </p:nvSpPr>
          <p:spPr>
            <a:xfrm flipH="1" flipV="1">
              <a:off x="1176840" y="3441600"/>
              <a:ext cx="681840" cy="19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>
              <a:off x="1168560" y="4431600"/>
              <a:ext cx="681120" cy="1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1168560" y="5432760"/>
              <a:ext cx="681120" cy="1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flipV="1">
              <a:off x="1168560" y="6434280"/>
              <a:ext cx="681120" cy="1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2397960" y="6706080"/>
              <a:ext cx="681120" cy="1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>
              <a:off x="2397960" y="5705280"/>
              <a:ext cx="68112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2397960" y="4703400"/>
              <a:ext cx="681120" cy="1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2397960" y="3702240"/>
              <a:ext cx="681120" cy="1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1168200" y="3770280"/>
              <a:ext cx="693000" cy="1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374560" y="3473280"/>
              <a:ext cx="693000" cy="17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1168200" y="4775400"/>
              <a:ext cx="69300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1168200" y="5776560"/>
              <a:ext cx="693000" cy="17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1168200" y="6777720"/>
              <a:ext cx="693000" cy="17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374560" y="4475160"/>
              <a:ext cx="69300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374560" y="5476320"/>
              <a:ext cx="693000" cy="17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2374560" y="6477840"/>
              <a:ext cx="69300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1714680" y="4394160"/>
            <a:ext cx="749160" cy="749520"/>
          </a:xfrm>
          <a:prstGeom prst="ellipse">
            <a:avLst/>
          </a:prstGeom>
          <a:solidFill>
            <a:srgbClr val="909090">
              <a:alpha val="4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461680" y="4756320"/>
            <a:ext cx="1251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695760" y="3733920"/>
            <a:ext cx="4279320" cy="2082240"/>
            <a:chOff x="3695760" y="3733920"/>
            <a:chExt cx="4279320" cy="2082240"/>
          </a:xfrm>
        </p:grpSpPr>
        <p:sp>
          <p:nvSpPr>
            <p:cNvPr id="581" name=""/>
            <p:cNvSpPr/>
            <p:nvPr/>
          </p:nvSpPr>
          <p:spPr>
            <a:xfrm>
              <a:off x="4635360" y="4444920"/>
              <a:ext cx="736200" cy="736200"/>
            </a:xfrm>
            <a:prstGeom prst="ellipse">
              <a:avLst/>
            </a:prstGeom>
            <a:solidFill>
              <a:srgbClr val="909090">
                <a:alpha val="48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4244400" y="4144320"/>
              <a:ext cx="45684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5346000" y="4926960"/>
              <a:ext cx="501480" cy="50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4268520" y="4965480"/>
              <a:ext cx="390240" cy="38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5346360" y="4244760"/>
              <a:ext cx="468000" cy="46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11400" y="3822480"/>
              <a:ext cx="355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49560" y="5117760"/>
              <a:ext cx="38052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43240" y="5155920"/>
              <a:ext cx="2031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x(a,b)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41720" y="3759120"/>
              <a:ext cx="194256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(a,b)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95760" y="3733920"/>
              <a:ext cx="4165200" cy="2069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8788320" y="3251160"/>
            <a:ext cx="3848040" cy="3987720"/>
            <a:chOff x="8788320" y="3251160"/>
            <a:chExt cx="3848040" cy="3987720"/>
          </a:xfrm>
        </p:grpSpPr>
        <p:pic>
          <p:nvPicPr>
            <p:cNvPr id="592" name="" descr=""/>
            <p:cNvPicPr/>
            <p:nvPr/>
          </p:nvPicPr>
          <p:blipFill>
            <a:blip r:embed="rId2"/>
            <a:stretch/>
          </p:blipFill>
          <p:spPr>
            <a:xfrm>
              <a:off x="8928000" y="3470400"/>
              <a:ext cx="361944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8788320" y="3251160"/>
              <a:ext cx="3848040" cy="398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H="1">
            <a:off x="7865640" y="4762440"/>
            <a:ext cx="9032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Greater-Than Block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141800" y="3124080"/>
            <a:ext cx="4745520" cy="3492720"/>
            <a:chOff x="4141800" y="3124080"/>
            <a:chExt cx="4745520" cy="3492720"/>
          </a:xfrm>
        </p:grpSpPr>
        <p:sp>
          <p:nvSpPr>
            <p:cNvPr id="597" name=""/>
            <p:cNvSpPr/>
            <p:nvPr/>
          </p:nvSpPr>
          <p:spPr>
            <a:xfrm>
              <a:off x="5103720" y="4330800"/>
              <a:ext cx="1270080" cy="1270080"/>
            </a:xfrm>
            <a:prstGeom prst="ellipse">
              <a:avLst/>
            </a:prstGeom>
            <a:solidFill>
              <a:srgbClr val="909090">
                <a:alpha val="48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a&gt;b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4489200" y="3625920"/>
              <a:ext cx="843120" cy="84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4487400" y="5440680"/>
              <a:ext cx="849240" cy="850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373800" y="4965840"/>
              <a:ext cx="89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173120" y="3124080"/>
              <a:ext cx="3070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4489200" y="3625920"/>
              <a:ext cx="843120" cy="84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41800" y="6006960"/>
              <a:ext cx="322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84160" y="4343400"/>
              <a:ext cx="17031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Myriad Pro Bold"/>
                  <a:ea typeface="Myriad Pro Bold"/>
                </a:rPr>
                <a:t>Output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Myriad Pro Bold"/>
                  <a:ea typeface="Myriad Pro Bold"/>
                </a:rPr>
                <a:t>(1 or 0)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38600" y="3392280"/>
              <a:ext cx="52020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  </a:t>
              </a: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51200" y="5405040"/>
              <a:ext cx="28260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\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Greater-Than Block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587920" y="7556400"/>
          <a:ext cx="5016600" cy="584280"/>
        </p:xfrm>
        <a:graphic>
          <a:graphicData uri="http://schemas.openxmlformats.org/drawingml/2006/table">
            <a:tbl>
              <a:tblPr/>
              <a:tblGrid>
                <a:gridCol w="627120"/>
                <a:gridCol w="627120"/>
                <a:gridCol w="627120"/>
                <a:gridCol w="626760"/>
                <a:gridCol w="627120"/>
                <a:gridCol w="627120"/>
                <a:gridCol w="627120"/>
                <a:gridCol w="627120"/>
              </a:tblGrid>
              <a:tr h="5842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5587920" y="4483080"/>
          <a:ext cx="5016600" cy="584280"/>
        </p:xfrm>
        <a:graphic>
          <a:graphicData uri="http://schemas.openxmlformats.org/drawingml/2006/table">
            <a:tbl>
              <a:tblPr/>
              <a:tblGrid>
                <a:gridCol w="627120"/>
                <a:gridCol w="627120"/>
                <a:gridCol w="627120"/>
                <a:gridCol w="626760"/>
                <a:gridCol w="627120"/>
                <a:gridCol w="627120"/>
                <a:gridCol w="627120"/>
                <a:gridCol w="627120"/>
              </a:tblGrid>
              <a:tr h="5842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15151"/>
                          </a:solidFill>
                          <a:latin typeface="Myriad Pro"/>
                          <a:ea typeface="Myriad Pro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a7aaab"/>
                      </a:solidFill>
                    </a:lnL>
                    <a:lnR w="5760">
                      <a:solidFill>
                        <a:srgbClr val="a7aaab"/>
                      </a:solidFill>
                    </a:lnR>
                    <a:lnT w="5760">
                      <a:solidFill>
                        <a:srgbClr val="a7aaab"/>
                      </a:solidFill>
                    </a:lnT>
                    <a:lnB w="5760">
                      <a:solidFill>
                        <a:srgbClr val="a7aaab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8e9e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10" name=""/>
          <p:cNvSpPr/>
          <p:nvPr/>
        </p:nvSpPr>
        <p:spPr>
          <a:xfrm>
            <a:off x="5195160" y="3263760"/>
            <a:ext cx="580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N-bit Shift-Left Register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10623240" y="4431960"/>
            <a:ext cx="28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10600200" y="7518240"/>
            <a:ext cx="31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473800" y="5880240"/>
            <a:ext cx="863640" cy="863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yriad Pro Bold"/>
                <a:ea typeface="Myriad Pro Bold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7074000" y="4191120"/>
            <a:ext cx="1425600" cy="0"/>
          </a:xfrm>
          <a:prstGeom prst="line">
            <a:avLst/>
          </a:prstGeom>
          <a:ln w="889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905440" y="5067360"/>
            <a:ext cx="0" cy="8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905440" y="6743520"/>
            <a:ext cx="0" cy="81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4011480" y="4859280"/>
            <a:ext cx="1541520" cy="11858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4345560" y="6458760"/>
            <a:ext cx="77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565884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1411200" y="4317840"/>
            <a:ext cx="275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yriad Pro"/>
                <a:ea typeface="Myriad Pro"/>
              </a:rPr>
              <a:t>Shift_en = 1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109400" y="6586560"/>
            <a:ext cx="1446120" cy="6667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1843560" y="7010280"/>
            <a:ext cx="2257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yriad Pro"/>
                <a:ea typeface="Myriad Pro"/>
              </a:rPr>
              <a:t>Output =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yriad Pro"/>
                <a:ea typeface="Myriad Pro"/>
              </a:rPr>
              <a:t>MSB of a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Results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7800" y="2463480"/>
            <a:ext cx="1289052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aco"/>
                <a:ea typeface="Monac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put is generated using a random number generato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aco"/>
                <a:ea typeface="Monaco"/>
              </a:rPr>
              <a:t>input: 86 199 62 1 211 249 56 1 224 37 92 231 22 235 18 112 233 244 230 23 242 178 67 76 28 232 32 167 42 52 21 169 41 9 84 165 248 254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aco"/>
                <a:ea typeface="Monaco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onaco"/>
                <a:ea typeface="Monaco"/>
              </a:rPr>
              <a:t>Output: 1 1 9 18 21 22 23 28 32 37 41 42 52 56 62 67 76 84 86 92 112 165 167 169 178 199 211 224 230 231 232 233 235 242 244 248 249 254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The Code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