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67040" y="-36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46520"/>
            <a:ext cx="4873680" cy="4402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29124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67040" y="929124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6BE15-2170-4F07-AF77-EC070F25A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7400" y="4646520"/>
            <a:ext cx="4873680" cy="4402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contrived oversimplified port report.  Typically you might not see either of the 2 top values here because the daily average work weight is on the order of 75k for the top valu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numbers are approximations for ease of vie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flags (pattern matching) are correct.  s for spim, b for bittorrent (dht algorithm actually), d for d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erms of our guesstimator algorithm (next few slides) we show the 2 interesting mistakes here (#4 is a local dns server and is said to be p2p, #1 is said to be scanner, but is act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ittorrent user with a very high peer cache miss rate (not enough friends).  This may/may not be a security problem - depends on local poli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we take the top 200 UDP tuples, 75% of the ww values are less than 100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87400" y="4646520"/>
            <a:ext cx="4873680" cy="4402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worm pcaps came from shadowserver.  thanks to them.  (note that this was batch testing unlike the rest of the test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ire has both gnutella and bittorrent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87400" y="4646520"/>
            <a:ext cx="4873680" cy="4402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dst:  useful for seeing if someone is doing multicast, or if multiple attackers are going after a single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7400" y="4646520"/>
            <a:ext cx="4873680" cy="4402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D and L4D are useful for p2p detection (if many of both than probably p2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INFO - never seen anybody using large MTU ethernet packets, although possibly some HDTV equivalent video app might do it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SIG - where ports are useful (it is a clue but not always for p2p) may be useful in learning about exploits targeted by a scanner.  Eg., our spim attackers always target ports 1026, 10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82BF-75CB-42B7-BA72-627E412E14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76344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7333-8B2D-4561-8191-FF240151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C8B4-E995-4AC9-9414-80A3F1DC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4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58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4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58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EBEF-2763-425A-9E7F-EEC8909393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CDE1-D2F0-419C-9EC9-06805ACC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76344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1F0B-26DA-45B4-833B-8B7EB7FD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9B70-8AD5-4205-90E3-850320B7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5F43-4B88-4B22-B6CC-FBB8A3A7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D75D-25BD-4498-99D5-B29B2E81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FC61-3CC3-4A2B-ADC2-E6BCF742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3D85-D5F9-458B-B992-DF8E98DF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D923-363F-4027-BEC8-619CBA7A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1066680"/>
            <a:ext cx="8915400" cy="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340A4E-2259-44E6-BA43-3A5D1FFDA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33920" y="6324480"/>
            <a:ext cx="1479600" cy="3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981080"/>
            <a:ext cx="7315200" cy="1371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6248520"/>
            <a:ext cx="1479600" cy="312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rb@cs.pdx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raffic Analysis of UDP-based Flows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 ourm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Binkley, Divya Parek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rb@cs.pdx.ed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divyap@pdx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land State Univer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tesy of John McH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3960" y="22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heory behind UDP workweigh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ost is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generate SENT * ERROR packets and hence appear higher in th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ning error generation is ob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 error generation is because a p2p host has a set of peers, some of which are st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ust busy, we add SENT + RE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hosts may recv more packets then they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OOST p2p video a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big error makers to the top, busy hosts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EEDE-2E1B-4E5F-847E-8BC89F1760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4CF0E-E70E-4B0E-99EC-961359204A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ome added features of UDP work weigh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raph the very first tuple (the winner!) over the day,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an averag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sp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day shown in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 weight &gt; HIGH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record N packets with automated tcpdump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proved effective at the past in catching DOS attacks sources and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when monitoring fails if DOS was too much for probe - so far have always managed to capture sufficient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90FB-57D5-4354-A77A-A65D4046004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67C7E-3BB2-4FEC-8808-D585EAB64C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aily graph of top UDP work weigh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458200" cy="3657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32160" y="5638680"/>
            <a:ext cx="61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single work weight per 30-second period for typical d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peaks here are usually SPIM outside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FBF1-D6C3-4C6C-82C1-FB846C5F023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7B9A5-F35F-4501-B250-DBC8686F82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trived UDP port report (simplified)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97160"/>
          <a:ext cx="8686800" cy="44701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  <a:gridCol w="965160"/>
                <a:gridCol w="965160"/>
                <a:gridCol w="965520"/>
                <a:gridCol w="965160"/>
                <a:gridCol w="965160"/>
                <a:gridCol w="965160"/>
                <a:gridCol w="96516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sr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MPER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D/L4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fla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s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/5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sc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6,1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2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7/12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2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3/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BCCB-20A7-4F14-8E85-2CB0095C8D0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7CB3A-0607-4350-AF99-F361CA12ED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UDP guesstimator algorithm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guess what host is up to based on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ly on L3D/L4D and work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use only L3 and L4 attributes not L7 attributes and avoid destination port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it should work if bittorrent is on port 53 and encry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P host 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a decision tree with 3 thres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 high threshold - set at 10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3D/L4D - p2p counts (say 10 for a low thresh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AF2A-806A-4D86-A37F-CC564946FB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6E1A4-E3BE-40A3-9703-D8408528D1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rough algorithm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 = “unknow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w &gt; HIGH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ess = sc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L4D is HIGH and L3D is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 = port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L3D is HIGH and L4D is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 = ip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L3D and L4D &gt; P2P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ess = p2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HIGHTHRESHOLD at 10million, port thresholds at 10 (might be higher/lower depending on loc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2CB6-2E0C-495D-921E-1639A5E776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F1D2F-8B42-4F38-A0FA-9EDB6C117F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how well does it work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ally only pointing out obvious attribute aspects but this is helpful to a busy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terest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ecause DNS servers are typically busy and because they send to many ports, many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ed as p2p -- true, but somehow anno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L7 pattern is complex and is probably sufficient as DNS isn’t going to be encry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me p2p hosts -- typically with stale caches may be diagnosed as “scann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sense this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p2p/scanner overlap is a long-stand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86B2-B1CC-4D5A-AE2A-C9D1BC7AC6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ADA45-A9C0-45F7-84ED-7CB9866F49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pplication guessing - limited experiment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ired by Collins, Reiter: Finding Peer-To-Peer File Sharing Using Coarse Network Behaviors, Sept.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d to try to use packet sizes to see if we could guess UDP-base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INFO SA/RA fields used for the mos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7 attributes in all,  basic sent size histogram + SA,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only done if guesstimator guesses “p2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back that off for Sk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ested in a lab using Windows Vista and applications (some testing on a M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led stats from 30 second UDP port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formation is appended to guess e.g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p:jo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46C5-A053-4DF1-BF29-6A87B56C4D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C3834-96EF-487F-99BF-B4256C9CF9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pproach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testing - lab only (barring stormworm where we got pcap traces from elsew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ed attribute stat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e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ttribute choose lower and upper threshold based on &gt;= 90% of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1000-1500 byte SIZE attribute was always 0 (not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coded as decision tree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a set of if tests - not if-then-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results could overlap (fuzzy m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7372-D0EA-4C23-A4C2-69A53E26E0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4BFA7-7901-425A-BD53-CF2B93330D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pps/protocols in experimen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1523880"/>
          <a:ext cx="6858000" cy="4100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on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tor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tor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ure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tor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or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tor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ew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utella or bittor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mworm (UD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e vari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6FDC-2ABD-4963-9091-53BCA604E6C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F90B8-A89C-41FE-8A24-987A23A804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pace - and short ourmon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flow tu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work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guesstim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(DNS and p2p as scann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-size based UDP application gu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5488-5009-484B-BDD2-DC69075B2A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95D1D-0D9D-4F70-B133-F6F467931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results?!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ve and interesting but not 100% conclusive that this approach might be 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nough testing but seemingly worked well barring sk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nough apps (should have included DNS! and probably N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ay be finding app classes not particular a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n’t know all the p2p apps on ou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university, although bittorrent and gnutella are domi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should have more buckets, look at recv packet buckets. better threshold estim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uld not get skype to behave - could catch it sometimes, other times not,  not necessarily p2p, not necessarily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32BD-337D-4958-93B7-F1AA3DF050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379A9-2AE1-4D38-AAE6-22339788D5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centric port tuple is useful for host behavi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imple stats and a top N s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ww is a good simple 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up track down blatant secur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noise and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timator is useful in term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ng world into security threats vs p2p based on non-L7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ing time spent looking a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to learn DNS servers th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gu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ising -- would be nice if researchers elsewhere would pursue it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998C7-8542-4828-B994-7D6217858D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B9C36-67B6-409E-93FA-316B32C1B7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urmon on sourceforg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lease (2.9) including work here expected Spring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port report guesstimator etc, plus hourly UDP summarization for por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h flow statistics (global site log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DNS statistics (errors, top N qu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blacklist mechanism (can handle net/ma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mon.sourceforge.net (version 2.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supports threads in front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5B04-E801-4C9E-AB68-0CA7AB42D6C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22AA7-4A2B-46D2-B40B-DAAC445506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otivation - problem spac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-based DOS attacks certainly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 searching courtesy of Distributed Hash Tables on the rise (use UDP to search and TCP to fe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demlia protocol - Maymounkov and D. Mazie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mworm botnet is UDP/P2P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edonkey related protocol (ove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-based apps not just for file-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ost - “cable TV”,  Skype - VO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focus on UDP flow activity in terms of security and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8C41-3467-444A-A6C6-469EF3736E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EACBD-C5B1-4DC9-B97C-B910E90232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rief ourmon intro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art system:  front-end, back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end: packet sniffer, output ASCII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: web-interface with graphs, and aggregated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-end produ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rs that produce RRDTOOL web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hardwired or programmable (B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kinds of top-N lists (ourmon fl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access plus graphics processing, log aggre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-second view and hourly aggregation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log for important security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55C2-729C-4A3B-884C-4D5C54FC56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4C4AF-8434-4712-A1A2-5DA3A4783B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2860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urmon architectural break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057400"/>
            <a:ext cx="2286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4680" y="23986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e box/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057400"/>
            <a:ext cx="2286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8200" y="23986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box/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1430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0200" y="361800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mon.co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45520" y="3389400"/>
            <a:ext cx="289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ti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N BPF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+ topn (hash table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s and other th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tuples or li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ome hardwired C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calars of inter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219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38080" y="11034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ts from NIC/kernel B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590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920" y="19051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.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93280" y="3313080"/>
            <a:ext cx="378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RRDTOOL strip ch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histogram top N graph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various ASCII repor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urly summ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report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44920" y="265572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worm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71440" y="560880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s: BPF expressions, lists, some hardwired C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5CC2-8518-4523-85C7-3E68D94DC8A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A2387-D892-4607-8847-79A3DA5DE5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urmon flow breakdow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N traditional (IP.port-&gt;IP.port)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, UDP, TCP, IC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summarizations and web hist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host centric flows at Lay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 (presented in TCP port re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  (presented in UDP port report)  &lt;-----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is is what we are talking about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7 specific flows now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 channels and hosts in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 and ssh flows (spin-off of traditional fl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EE5C-4091-4B5E-B4F2-A994527C2F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D2B26-F214-4976-BE67-0A3CD63FCB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DP port repor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centric top N tuple collected by front-end every 30 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ly summarizations made by back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tuple field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 -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dst address - one sampled IP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work weight - noise measurement (sort 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- packet count of packets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V - packet count of packets returned to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MPERRORS - icmp errors returned (unreachables in parti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7ED8-F4A3-4E91-A79C-93F84AA323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BFE3B-25AC-4CB3-B858-1B8C450305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DP port report tuple, cont.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3D - count of unique remote IP addresses in 30-second sampl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4D - count of unique remote UDP d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INFO - size hist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buckets,  &lt;= 40, 90. 200, 1000, 1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is is L7 payload 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 - running average of sent payload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 - running average of recv. payload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FLAGS - tags based on L7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for spim, d for DNS, b for Bittorren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IG - first ten dst ports seen with packet counts expressed as frequency in 30 sec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[53,100] meaning 100% sent to port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1F5B-7C40-42A3-A99D-5B17AB7D60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DBCFC-14EA-4131-9C2F-9DBA5EAFC2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DP work weight calcul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P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P ww = (SENT * ICMPERRORS) + REC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CMPERRORS == 0,  then just SENT + RE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ort the top N report by the UDP 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can divide results up into about 3 bands:   (numbers are relative to ethernet speed, 1 Gbit in our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(&gt; 10 million in our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Y 1000..1 million (p2p/games/dns serv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 (most - e.g., clients doing DNS) &lt;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03850-7943-4A9C-A806-4495412EDD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E9D5B-497C-4ED9-9BCA-CB1572755B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01:57:20Z</dcterms:created>
  <dc:creator>mitali</dc:creator>
  <dc:description/>
  <dc:language>en-US</dc:language>
  <cp:lastModifiedBy>jim binkley</cp:lastModifiedBy>
  <cp:lastPrinted>2003-03-21T17:02:59Z</cp:lastPrinted>
  <dcterms:modified xsi:type="dcterms:W3CDTF">2008-12-18T21:49:10Z</dcterms:modified>
  <cp:revision>416</cp:revision>
  <dc:subject/>
  <dc:title>PowerPoint Presentation</dc:title>
</cp:coreProperties>
</file>