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54DA8-EBFA-4AEA-99AF-0FADCC7E89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763440"/>
            <a:ext cx="8076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234F-6995-4518-B4B1-15945B71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76344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080" y="376344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F872-1E54-402F-A7CD-774C134E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44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58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44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58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D4DDA-856B-4BB6-9DC1-0AD6AF4357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240"/>
            <a:ext cx="6934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76344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2AFB-2FA9-4A96-B1DD-7F873983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376344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763440"/>
            <a:ext cx="8076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763440"/>
            <a:ext cx="8076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76344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376344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4DF59-FCEE-4D88-B37A-34C90AF5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72BC6-1D8E-4B5D-87E1-3CE14253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BE5BB-D9EA-4237-BD7D-DF6E4D1AB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228240"/>
            <a:ext cx="6934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4A45-5DFC-49BA-8118-90E06E68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76344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0FE3D-A37A-4F68-8DEB-515CF9DE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080" y="376344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B507-D5F6-4838-B571-FAFA9F1F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211680"/>
            <a:ext cx="6934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763440"/>
            <a:ext cx="80769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CA91-61B9-4508-A712-EC6A0936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971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1066680"/>
            <a:ext cx="8915400" cy="0"/>
          </a:xfrm>
          <a:prstGeom prst="line">
            <a:avLst/>
          </a:prstGeom>
          <a:ln w="255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892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0D122C-FC9E-4D53-A970-5A907489A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" cy="892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14400" y="1981080"/>
            <a:ext cx="7315200" cy="1371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n Algorithm for Anomaly-based </a:t>
            </a:r>
            <a:br>
              <a:rPr sz="2800"/>
            </a:b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otnet Detection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Bink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rb@cs.pdx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esh Sin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h@cs.pdx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land Stat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rc tuple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extract these 4 IRC mess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, PRIVMSG channel-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: 1.  IP addresses and TCP ports taken from L3/L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lient/server information taken from directionality of IRC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annel-names come from JOIN/PRIVM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er host and channel stat counter (total pings, privmsgs, total messages of 4 ki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F2E3-40A3-4F9C-9D89-82F813C46FC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5F2EE-BA1E-470A-AE54-062C809234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implified irc tuples 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 channel tuple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nel name, join counts, privmsg counts, list of IP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c node tu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, message counts, tcp ww, client/server fla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work weight: (comes from syn tu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 =  Syns sent + Fins sent + Resets returned/total pk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17896-88F8-4CB3-839A-5F1CBAC7318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30715-AB78-4BB3-A04F-A752776F9C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CP ww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2 years of experience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 # of control pkts / total pk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nly attribute used with it for scan de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 typically use 1 syn/second at l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wayness of data:  typically look at this as additional attribute in 30-second scan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 and 2-wayness not us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C version of TCP work weight is w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 often affected by P2P lack of connectivity – especially with gnu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8A69-F5B9-4CD8-8098-1E33604FD7D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F6AE6-7E50-4064-99AA-243A930310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tnet client detection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IRC data gives us small meshes on campu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: 20,  min: 2 IRC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s used may be 6667, but may v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utomated bots exist (devoted to traditional IRC phenomenon like audio/video dissemi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dorm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eems to happen though is that the botnet client meshes SCAN with greater than one host during th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therefore need an hourly/daily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649ED-D8D0-4BEE-8E7D-60BDE809490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96F2E-C81E-45EC-B55F-9E7DE78EC8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ubuntu channel - benign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33520" y="1295280"/>
          <a:ext cx="8076960" cy="5229360"/>
        </p:xfrm>
        <a:graphic>
          <a:graphicData uri="http://schemas.openxmlformats.org/drawingml/2006/table">
            <a:tbl>
              <a:tblPr/>
              <a:tblGrid>
                <a:gridCol w="1154160"/>
                <a:gridCol w="1153800"/>
                <a:gridCol w="1154160"/>
                <a:gridCol w="1152720"/>
                <a:gridCol w="1154160"/>
                <a:gridCol w="1153800"/>
                <a:gridCol w="1154160"/>
              </a:tblGrid>
              <a:tr h="104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m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1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BB49-E901-4669-883E-7449BA428DA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221EB-308D-4ACA-92CA-EC79B2C82A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7 - an evil client mesh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520" y="1295280"/>
          <a:ext cx="8076960" cy="5158080"/>
        </p:xfrm>
        <a:graphic>
          <a:graphicData uri="http://schemas.openxmlformats.org/drawingml/2006/table">
            <a:tbl>
              <a:tblPr/>
              <a:tblGrid>
                <a:gridCol w="1154160"/>
                <a:gridCol w="1153800"/>
                <a:gridCol w="1154160"/>
                <a:gridCol w="1152720"/>
                <a:gridCol w="1154160"/>
                <a:gridCol w="1153800"/>
                <a:gridCol w="11541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m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4478-FC4F-45BB-A6E6-F4C0A32FC61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EDED7-A71A-48F8-8699-92AEF1D793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vil channel sort – rank channels based on simple metric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7 ahead of ubuntu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4/6 scanners compared to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work weight during day kept is important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of set of N, how many were scanners at any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idea: &gt; 1 scanner In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of course other attributes in log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and intensity of 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576E9-6497-4C1F-B443-D478EE3E46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872A3-6B01-43C9-B1D8-F627DCF91E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t server detection: uh-oh,  irc RRD has ping/pong way UP!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98508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30C0-B968-4E91-A1A5-1AE5F5CDD5C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B6DF2-DECC-4277-A73B-6CEB2F5512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t server example – total ww count high too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424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77400" y="5897520"/>
            <a:ext cx="69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kinda distributed tcp syn scan right?, wait … let’s loo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DECDF-777E-433D-97B2-DC8230D2C02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5250F-B7F2-4410-BB6D-070172B605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ats like so: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      msgs        ips   wormy  ev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                    157k     36k   1700    you tell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                   81k      13k     7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50k remote hosts with one campus bo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tclient “just changed” into a bo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clients can be botservers at an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F09A2-1FE3-4125-BACA-D0B8D45ED8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47398-578D-475B-AD2E-B964E0D57E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al flow t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net client mesh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net server mesh detection (if time perm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C505-609B-4263-B57F-4F4E2B82BC5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C6E99-D31D-4757-89CA-43257A3898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tserver conclusions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tats suff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ing/pong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 IRC nets at PSU 40/period, not 2k/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umber of IPs in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st IRC channel 20 per day, not 10-5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otal server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gs/pongs elevate th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teresting: total number of high TCP w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hosts that cannot connect to on-campus bot server (running on windows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B7CD2-5298-4643-902E-DD91B15D91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7170B-6487-4ED1-84D8-8C2DF78D07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clusions/future work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line cases – single host botnets or small botnets with no attacks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observable due to “poor choices” of IRC botnet channel names  (a  or #xploit  or lsass4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way to include email spam senders as att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on’t seem to experience that phenome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work: do it without IRC channel of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dea:  correlate attacks and peers of attackers BUT p2p is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42E53-4480-43BF-9BDD-903D1B43E75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0ACC0-FDAF-4C10-8FFE-EA5A223D62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SU’s network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k students/faculty/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0 Ethernet switches, 10k lit ethernet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-spread wireless “pubnet”, 802.11b/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daily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k pps at peak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-300 mbits total, more to Internet, than from 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next bullet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dorms (resnet) – resnet is typically in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ive bittorrent/gnutella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7F40-5A5C-43F8-9D51-921323B5775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C47C3-4DEB-4E3F-8EF1-8E3C0FBF08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ourmon architectural breakdown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057400"/>
            <a:ext cx="2286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3600" y="23986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e box/Free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057400"/>
            <a:ext cx="2286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7480" y="23986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 box/BS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14300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0200" y="361800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mon.co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44800" y="3389400"/>
            <a:ext cx="289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ti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N BPF expr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+ topn (hash table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s and other th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tuples or li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ome hardwired C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calars of inter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PCRE t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1219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38080" y="11034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kts from NIC/kernel B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2590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9920" y="190512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.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91480" y="3313080"/>
            <a:ext cx="3647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RRDTOOL strip ch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histogram graph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various ASCII report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urly summ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report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44920" y="265572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worm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66760" y="560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45CAA-9B1C-44F0-91C9-F761E1737EC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1B40A-81FD-4C56-A449-F260E88595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can count graph (worm count) in Jan. 2005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77080" cy="3600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07960" y="5589720"/>
            <a:ext cx="629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k external host attack (DDOS) on infected host running I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D8D06-C2FC-4008-AC8E-89D9AA7B04C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F3E96-2C62-4DF5-947F-33A3421299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cent large ddos attack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pkts graph looks like this normally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684216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942DF-2163-4650-9822-3A4F2DB712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7CA14-65FB-44FC-A952-8E0880E54A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ch ouch ouch 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7056360" cy="3241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76520" y="5248440"/>
            <a:ext cx="62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’s 869k pps – we have physical gE connection to Inet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A919-45D8-49D8-8547-B5AB647F8A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E58BD-2410-4A1D-8262-43CE8ABC58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tnet situation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he last 2 years emerging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percentage of our infections botnet 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teral damage comm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 06/wireless subnet knocked off air due to DDOS 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and vicious DDOS attacks have occurred in OUS systems (previous p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mounts of TCP-based scanning aimed at 139/4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d to create IRC mesh detection module in ourmon to look for IRC-related mal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basic IRC statistics plus coupling of IRC to scanning module elsewhere in our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4A60-7A21-4DD6-B6EE-17404E01EF0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D7DA8-03CB-43AE-84A0-A379EDE591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nfrastructure – 3 tuples in ourmon (irc new)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hirty seconds extract 3 experimental flow tu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c channel tu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c host tupl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p syn t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ed with scan detection attribute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p work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C: we look at layer 7 IRC data, and use a snap size of 256 by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1C5E-053D-4067-9D59-4590DEF5A77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EC413-2CBD-433C-8D8C-4AB64EDF19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01:57:20Z</dcterms:created>
  <dc:creator>mitali</dc:creator>
  <dc:description/>
  <dc:language>en-US</dc:language>
  <cp:lastModifiedBy>Jim Binkley</cp:lastModifiedBy>
  <cp:lastPrinted>2003-03-21T17:02:59Z</cp:lastPrinted>
  <dcterms:modified xsi:type="dcterms:W3CDTF">2006-06-20T18:14:05Z</dcterms:modified>
  <cp:revision>427</cp:revision>
  <dc:subject/>
  <dc:title>PowerPoint Presentation</dc:title>
</cp:coreProperties>
</file>