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CAEB5-6185-4C9C-852A-76CDF2294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44464-8C51-4E23-910B-CD08B8946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4E946-635E-472E-9E7B-2B5758268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FBB0D-157E-4450-9509-FC0657C2F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0FFC2-54A1-4C67-A2D2-A444706F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A54C-FB67-487F-ABBD-956AB09CD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34E9-602F-40CC-A934-2B35707C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E273-F540-4CB8-A567-D27FFE12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3D33-0436-4EEA-B58B-32D1C40FA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E950-9790-41BA-8F51-E6BDB9E9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AF42-E5D9-4280-8BFB-61284432E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82540-3937-464A-BFF9-B3B6B8216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746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1444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75356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75356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75356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FA77-19D5-4571-8590-9AE020C1B9E4}" type="datetime">
              <a:rPr b="0" lang="en-US" sz="1400" spc="-1" strike="noStrike">
                <a:solidFill>
                  <a:srgbClr val="000000"/>
                </a:solidFill>
                <a:latin typeface="Futura Condensed"/>
              </a:rPr>
              <a:t>07/30/26</a:t>
            </a:fld>
            <a:r>
              <a:rPr b="0" lang="en-US" sz="1400" spc="-1" strike="noStrike">
                <a:solidFill>
                  <a:srgbClr val="000000"/>
                </a:solidFill>
                <a:latin typeface="Futura Condensed"/>
              </a:rPr>
              <a:t> </a:t>
            </a:r>
            <a:fld id="{544F6716-847D-4936-AB7E-DFBC3B9E849F}" type="datetime10">
              <a:rPr b="0" lang="en-US" sz="1400" spc="-1" strike="noStrike">
                <a:solidFill>
                  <a:srgbClr val="000000"/>
                </a:solidFill>
                <a:latin typeface="Futura Condensed"/>
              </a:rPr>
              <a:t>10:2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E0F6-98AA-4CB2-8B64-D4174B118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www.dfrc.nasa.gov/Gallery/Photo/"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cture 11:</a:t>
            </a:r>
            <a:br>
              <a:rPr sz="4400"/>
            </a:br>
            <a:r>
              <a:rPr b="0" lang="en-US" sz="4400" spc="-1" strike="noStrike">
                <a:solidFill>
                  <a:srgbClr val="000000"/>
                </a:solidFill>
                <a:latin typeface="Tahoma"/>
              </a:rPr>
              <a:t>Assurance &amp; Evaluation</a:t>
            </a:r>
            <a:endParaRPr b="0" lang="en-US" sz="4400" spc="-1" strike="noStrike">
              <a:solidFill>
                <a:srgbClr val="000000"/>
              </a:solidFill>
              <a:latin typeface="Tahoma"/>
            </a:endParaRPr>
          </a:p>
        </p:txBody>
      </p:sp>
      <p:sp>
        <p:nvSpPr>
          <p:cNvPr id="4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mes Hook</a:t>
            </a:r>
            <a:endParaRPr b="0" lang="en-US" sz="3200" spc="-1" strike="noStrike">
              <a:solidFill>
                <a:srgbClr val="000000"/>
              </a:solidFill>
              <a:latin typeface="Tahoma"/>
            </a:endParaRPr>
          </a:p>
        </p:txBody>
      </p:sp>
      <p:sp>
        <p:nvSpPr>
          <p:cNvPr id="43" name=""/>
          <p:cNvSpPr/>
          <p:nvPr/>
        </p:nvSpPr>
        <p:spPr>
          <a:xfrm>
            <a:off x="1143000" y="0"/>
            <a:ext cx="73915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 591:  Introduction to Computer Security</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Analogy</a:t>
            </a:r>
            <a:endParaRPr b="0" lang="en-US" sz="3600" spc="-1" strike="noStrike">
              <a:solidFill>
                <a:srgbClr val="000000"/>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factor of trust of commercial airplanes is that we trust the engineering processes used to design, build, maintain, and improve them</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rance techniques for information systems are predicated on software engineering practices</a:t>
            </a:r>
            <a:endParaRPr b="0" lang="en-US" sz="24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our discipline a sufficiently mature engineering discipline to earn the trust that the public has placed in us?</a:t>
            </a:r>
            <a:endParaRPr b="0" lang="en-US" sz="20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llivan and Bishop’s presentation builds on what are accepted as best practices in Software Engineering</a:t>
            </a: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erson’s presentation is a little more skeptic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surance &amp; Trust</a:t>
            </a:r>
            <a:endParaRPr b="0" lang="en-US" sz="4000" spc="-1" strike="noStrike">
              <a:solidFill>
                <a:srgbClr val="000000"/>
              </a:solidFill>
              <a:latin typeface="Tahoma"/>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llivan builds on three related idea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rustworthy</a:t>
            </a:r>
            <a:r>
              <a:rPr b="0" lang="en-US" sz="2000" spc="-1" strike="noStrike">
                <a:solidFill>
                  <a:srgbClr val="000000"/>
                </a:solidFill>
                <a:latin typeface="Tahoma"/>
              </a:rPr>
              <a:t>:  sufficient credible evidence that the system will meet … requireme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rust</a:t>
            </a:r>
            <a:r>
              <a:rPr b="0" lang="en-US" sz="2000" spc="-1" strike="noStrike">
                <a:solidFill>
                  <a:srgbClr val="000000"/>
                </a:solidFill>
                <a:latin typeface="Tahoma"/>
              </a:rPr>
              <a:t>:  a measure of trustworthines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ecurity Assurance</a:t>
            </a:r>
            <a:r>
              <a:rPr b="0" lang="en-US" sz="2000" spc="-1" strike="noStrike">
                <a:solidFill>
                  <a:srgbClr val="000000"/>
                </a:solidFill>
                <a:latin typeface="Tahoma"/>
              </a:rPr>
              <a:t>:  confidence that an entity meets its security requirements, based on evidence provided by the application of assurance techniques</a:t>
            </a:r>
            <a:endParaRPr b="0" lang="en-US" sz="20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development methodology; formal methods; testing; …</a:t>
            </a:r>
            <a:endParaRPr b="0" lang="en-US" sz="18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hat’s the difference between “trustworthy” and “security assurance”?</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a system have to be correct to be sec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oss Anderson on Assurance</a:t>
            </a:r>
            <a:endParaRPr b="0" lang="en-US" sz="4000" spc="-1" strike="noStrike">
              <a:solidFill>
                <a:srgbClr val="000000"/>
              </a:solidFill>
              <a:latin typeface="Tahoma"/>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undamentally, assurance comes down to the question of whether capable, motivated people have beat up on the system enough.  But how do you define enough?  And how do you define the system?  How do you deal with people who protect the wrong thing, … out of date or plain wrong? … allow for human failu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ngineers:  Avoid Previous Failures</a:t>
            </a:r>
            <a:endParaRPr b="0" lang="en-US" sz="4000" spc="-1" strike="noStrike">
              <a:solidFill>
                <a:srgbClr val="000000"/>
              </a:solidFill>
              <a:latin typeface="Tahoma"/>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llivan proposes 9 classes of failures</a:t>
            </a:r>
            <a:endParaRPr b="0" lang="en-US" sz="24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ments definition, omissions, and mistakes</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 design flaws</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ware implementation flaws (wiring, chip)</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implementation errors (bugs, compiler bugs)</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 use and operation errors</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ful system misuse</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ware, communication, or equipment malfunction</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l problems, natural, acts of God</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olution Maintenance, faulty upgrades, decommiss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udy Previous Failures</a:t>
            </a:r>
            <a:endParaRPr b="0" lang="en-US" sz="4000" spc="-1" strike="noStrike">
              <a:solidFill>
                <a:srgbClr val="000000"/>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Ks community documents failur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llivan presents three “war stories” to support that the list is reasonabl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ill never prove such a list is sufficien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 mature discipline, we will be able to change “best practices” if list is insuffici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coma Narrows Bri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levant Tools and Techniques</a:t>
            </a:r>
            <a:endParaRPr b="0" lang="en-US" sz="4000" spc="-1" strike="noStrike">
              <a:solidFill>
                <a:srgbClr val="000000"/>
              </a:solidFill>
              <a:latin typeface="Tahoma"/>
            </a:endParaRPr>
          </a:p>
        </p:txBody>
      </p:sp>
      <p:sp>
        <p:nvSpPr>
          <p:cNvPr id="77"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ssurance:  1, 2, and 6</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Assurance:  </a:t>
            </a:r>
            <a:endParaRPr b="0" lang="en-US" sz="24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ware/software errors 3, 4, 7</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 &amp; upgrades 9</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ful misuse 6</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8</a:t>
            </a:r>
            <a:endParaRPr b="0" lang="en-US" sz="20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al Assurance</a:t>
            </a:r>
            <a:endParaRPr b="0" lang="en-US" sz="24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al errors 5</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ful misuse 6</a:t>
            </a:r>
            <a:endParaRPr b="0" lang="en-US" sz="2000" spc="-1" strike="noStrike">
              <a:solidFill>
                <a:srgbClr val="000000"/>
              </a:solidFill>
              <a:latin typeface="Tahoma"/>
            </a:endParaRPr>
          </a:p>
        </p:txBody>
      </p:sp>
      <p:sp>
        <p:nvSpPr>
          <p:cNvPr id="78" name="PlaceHolder 3"/>
          <p:cNvSpPr>
            <a:spLocks noGrp="1"/>
          </p:cNvSpPr>
          <p:nvPr>
            <p:ph/>
          </p:nvPr>
        </p:nvSpPr>
        <p:spPr>
          <a:xfrm>
            <a:off x="4647960" y="1981080"/>
            <a:ext cx="4343400" cy="4114800"/>
          </a:xfrm>
          <a:prstGeom prst="rect">
            <a:avLst/>
          </a:prstGeom>
          <a:noFill/>
          <a:ln w="0">
            <a:noFill/>
          </a:ln>
        </p:spPr>
        <p:txBody>
          <a:bodyPr lIns="90000" rIns="90000" tIns="46800" bIns="46800" anchor="t">
            <a:normAutofit/>
          </a:bodyPr>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 definition, omissions, and mistake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design flaw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ware implementation flaw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ftware implementation errors (bugs, compiler bug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use and operation error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ful system misuse</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ware, communication, or equipment malfunction</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vironmental problems, natural, acts of God</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olution Maintenance, faulty upgrades, decommiss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ftware Engineering</a:t>
            </a:r>
            <a:endParaRPr b="0" lang="en-US" sz="3600" spc="-1" strike="noStrike">
              <a:solidFill>
                <a:srgbClr val="000000"/>
              </a:solidFill>
              <a:latin typeface="Tahoma"/>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xonomy of failures and design methods presupposes Software Engineering Principle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c lifecycle view of SE posits:</a:t>
            </a:r>
            <a:endParaRPr b="0" lang="en-US" sz="20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 and Test</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 and Maintenan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sign Assurance (broad)</a:t>
            </a:r>
            <a:endParaRPr b="0" lang="en-US" sz="3600" spc="-1" strike="noStrike">
              <a:solidFill>
                <a:srgbClr val="000000"/>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ments:  statements of goals that must be satisfie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Security assurance, requirements should determine the security policy, or the space of possible security policies (</a:t>
            </a:r>
            <a:r>
              <a:rPr b="0" i="1" lang="en-US" sz="2000" spc="-1" strike="noStrike">
                <a:solidFill>
                  <a:srgbClr val="000000"/>
                </a:solidFill>
                <a:latin typeface="Tahoma"/>
              </a:rPr>
              <a:t>security model</a:t>
            </a:r>
            <a:r>
              <a:rPr b="0" lang="en-US" sz="2000" spc="-1" strike="noStrike">
                <a:solidFill>
                  <a:srgbClr val="000000"/>
                </a:solidFill>
                <a:latin typeface="Tahoma"/>
              </a:rPr>
              <a:t>), for the system</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What is the access control mechanism?  What are the subjects?  What are the objects?  What are the rights?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 the access control policy mandatory? Discretionary? Originator controlled?</a:t>
            </a:r>
            <a:endParaRPr b="0" lang="en-US" sz="18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ools introduced in class to date provide a vocabulary for expressing security models, policies, and mechanis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icy Assurance</a:t>
            </a:r>
            <a:endParaRPr b="0" lang="en-US" sz="3600" spc="-1" strike="noStrike">
              <a:solidFill>
                <a:srgbClr val="000000"/>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idence that the set of security requirements is complete, consistent and technically sound</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lete:  </a:t>
            </a:r>
            <a:endParaRPr b="0" lang="en-US" sz="1800" spc="-1" strike="noStrike">
              <a:solidFill>
                <a:srgbClr val="000000"/>
              </a:solidFill>
              <a:latin typeface="Tahoma"/>
            </a:endParaRPr>
          </a:p>
          <a:p>
            <a:pPr lvl="2" marL="108576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c:  complete means every sentence is either true or false</a:t>
            </a:r>
            <a:endParaRPr b="0" lang="en-US" sz="1600" spc="-1" strike="noStrike">
              <a:solidFill>
                <a:srgbClr val="000000"/>
              </a:solidFill>
              <a:latin typeface="Tahoma"/>
            </a:endParaRPr>
          </a:p>
          <a:p>
            <a:pPr lvl="2" marL="108576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urity:  every system state can be classified as “safe” or “unsafe”</a:t>
            </a:r>
            <a:endParaRPr b="0" lang="en-US" sz="16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stent:</a:t>
            </a:r>
            <a:endParaRPr b="0" lang="en-US" sz="1800" spc="-1" strike="noStrike">
              <a:solidFill>
                <a:srgbClr val="000000"/>
              </a:solidFill>
              <a:latin typeface="Tahoma"/>
            </a:endParaRPr>
          </a:p>
          <a:p>
            <a:pPr lvl="2" marL="108576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c:  there is no sentence that is both true and false, or, equivalently that the sentence “false” is not a theorem</a:t>
            </a:r>
            <a:endParaRPr b="0" lang="en-US" sz="1600" spc="-1" strike="noStrike">
              <a:solidFill>
                <a:srgbClr val="000000"/>
              </a:solidFill>
              <a:latin typeface="Tahoma"/>
            </a:endParaRPr>
          </a:p>
          <a:p>
            <a:pPr lvl="2" marL="108576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urity: no system state is both “safe” and “unsafe”.</a:t>
            </a:r>
            <a:endParaRPr b="0" lang="en-US" sz="16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chnically sound:</a:t>
            </a:r>
            <a:endParaRPr b="0" lang="en-US" sz="1800" spc="-1" strike="noStrike">
              <a:solidFill>
                <a:srgbClr val="000000"/>
              </a:solidFill>
              <a:latin typeface="Tahoma"/>
            </a:endParaRPr>
          </a:p>
          <a:p>
            <a:pPr lvl="2" marL="108576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c:  a rule is sound if it does not introduce inconsistencies</a:t>
            </a:r>
            <a:endParaRPr b="0" lang="en-US" sz="1600" spc="-1" strike="noStrike">
              <a:solidFill>
                <a:srgbClr val="000000"/>
              </a:solidFill>
              <a:latin typeface="Tahoma"/>
            </a:endParaRPr>
          </a:p>
          <a:p>
            <a:pPr lvl="2" marL="108576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I think the author intends a necessarily informal notion that the model is appropriate to the situa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licy Assurance Examples</a:t>
            </a:r>
            <a:endParaRPr b="0" lang="en-US" sz="3600" spc="-1" strike="noStrike">
              <a:solidFill>
                <a:srgbClr val="0000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iginal BLP papers show that the model is complete and consist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olpano, Irvine and Smith paper shows that the Denning and Denning Information Flow Security concepts can be made sound</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analysis is necessarily incomplete (halting problem)</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Policy Assurance arguments are carried out using </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igorous mathematics” (I.e. pencil and paper proof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use theorem provers (machine checked proof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s</a:t>
            </a:r>
            <a:endParaRPr b="0" lang="en-US" sz="4400" spc="-1" strike="noStrike">
              <a:solidFill>
                <a:srgbClr val="0000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e Assurance as a concept/go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e methods to increase assur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sign Assurance (strict)</a:t>
            </a:r>
            <a:endParaRPr b="0" lang="en-US" sz="3600" spc="-1" strike="noStrike">
              <a:solidFill>
                <a:srgbClr val="000000"/>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is sufficient to meet the requirements of the policy</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a design?</a:t>
            </a:r>
            <a:endParaRPr b="0" lang="en-US" sz="20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e</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ware software components</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unication mechanisms</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cases?</a:t>
            </a:r>
            <a:endParaRPr b="0" lang="en-US" sz="1800" spc="-1" strike="noStrike">
              <a:solidFill>
                <a:srgbClr val="000000"/>
              </a:solidFill>
              <a:latin typeface="Tahoma"/>
            </a:endParaRPr>
          </a:p>
          <a:p>
            <a:pPr lvl="2" marL="108576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at profi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lementation Assurance</a:t>
            </a:r>
            <a:endParaRPr b="0" lang="en-US" sz="3600" spc="-1" strike="noStrike">
              <a:solidFill>
                <a:srgbClr val="000000"/>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idence establishing the implementation is consistent with the requirements and policy</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lly this is done by showing the implementation is consistent with the design, which is consistent with requirements and policy…</a:t>
            </a:r>
            <a:endParaRPr b="0" lang="en-US" sz="18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ation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implemented correctly</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idence that appropriate tools and practices used to avoid introducing vulnerabilities (e.g. code insertion/buffer overflow)</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ing</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of of correctnes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Assurance</a:t>
            </a:r>
            <a:endParaRPr b="0" lang="en-US" sz="3600" spc="-1" strike="noStrike">
              <a:solidFill>
                <a:srgbClr val="000000"/>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idence the system sustains the security policy requirements during installation, configuration, and day-to-day oper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 mentions document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bility testing is also key</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Computer Interaction studies are underutilized in mainstream assurance practices!</a:t>
            </a: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ss Anderson:  usability is “the spectre at the fea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verage?</a:t>
            </a:r>
            <a:endParaRPr b="0" lang="en-US" sz="4000" spc="-1" strike="noStrike">
              <a:solidFill>
                <a:srgbClr val="000000"/>
              </a:solidFill>
              <a:latin typeface="Tahoma"/>
            </a:endParaRPr>
          </a:p>
        </p:txBody>
      </p:sp>
      <p:sp>
        <p:nvSpPr>
          <p:cNvPr id="94"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Assurance:  1, 2, and 6</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Assurance:  </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ware/software errors 3, 4, 7</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 &amp; upgrades 9</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ful misuse 6</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vironment 8</a:t>
            </a:r>
            <a:endParaRPr b="0" lang="en-US" sz="18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al Assurance</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 errors 5</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ful misuse 6</a:t>
            </a:r>
            <a:endParaRPr b="0" lang="en-US" sz="1800" spc="-1" strike="noStrike">
              <a:solidFill>
                <a:srgbClr val="000000"/>
              </a:solidFill>
              <a:latin typeface="Tahoma"/>
            </a:endParaRPr>
          </a:p>
        </p:txBody>
      </p:sp>
      <p:sp>
        <p:nvSpPr>
          <p:cNvPr id="95" name="PlaceHolder 3"/>
          <p:cNvSpPr>
            <a:spLocks noGrp="1"/>
          </p:cNvSpPr>
          <p:nvPr>
            <p:ph/>
          </p:nvPr>
        </p:nvSpPr>
        <p:spPr>
          <a:xfrm>
            <a:off x="4647960" y="1981080"/>
            <a:ext cx="4343400" cy="4114800"/>
          </a:xfrm>
          <a:prstGeom prst="rect">
            <a:avLst/>
          </a:prstGeom>
          <a:noFill/>
          <a:ln w="0">
            <a:noFill/>
          </a:ln>
        </p:spPr>
        <p:txBody>
          <a:bodyPr lIns="90000" rIns="90000" tIns="46800" bIns="46800" anchor="t">
            <a:normAutofit/>
          </a:bodyPr>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 definition, omissions, and mistake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design flaw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ware implementation flaw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ftware implementation errors (bugs, compiler bug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use and operation errors</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ful system misuse</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rdware, communication, or equipment malfunction</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vironmental problems, natural, acts of God</a:t>
            </a:r>
            <a:endParaRPr b="0" lang="en-US" sz="1800" spc="-1" strike="noStrike">
              <a:solidFill>
                <a:srgbClr val="000000"/>
              </a:solidFill>
              <a:latin typeface="Tahoma"/>
            </a:endParaRPr>
          </a:p>
          <a:p>
            <a:pPr marL="339840" indent="-339840">
              <a:lnSpc>
                <a:spcPct val="90000"/>
              </a:lnSpc>
              <a:spcBef>
                <a:spcPts val="451"/>
              </a:spcBef>
              <a:buClr>
                <a:srgbClr val="000000"/>
              </a:buClr>
              <a:buFont typeface="Tahoma"/>
              <a:buAutoNum type="arabicPeriod"/>
              <a:tabLst>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olution Maintenance, faulty upgrades, decommissions</a:t>
            </a:r>
            <a:endParaRPr b="0" lang="en-US" sz="1800" spc="-1" strike="noStrike">
              <a:solidFill>
                <a:srgbClr val="000000"/>
              </a:solidFill>
              <a:latin typeface="Tahoma"/>
            </a:endParaRPr>
          </a:p>
        </p:txBody>
      </p:sp>
      <p:sp>
        <p:nvSpPr>
          <p:cNvPr id="96" name=""/>
          <p:cNvSpPr/>
          <p:nvPr/>
        </p:nvSpPr>
        <p:spPr>
          <a:xfrm>
            <a:off x="304920" y="541008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ll are tasked with 6, do any do an adequate jo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ucture of An Assurance Argument</a:t>
            </a:r>
            <a:endParaRPr b="0" lang="en-US" sz="4400" spc="-1" strike="noStrike">
              <a:solidFill>
                <a:srgbClr val="000000"/>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Engineering Process View is typically used to organize assurance argumen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is viewed to have a “life cycl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ired by biolog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ife Cycle</a:t>
            </a:r>
            <a:endParaRPr b="0" lang="en-US" sz="4400" spc="-1" strike="noStrike">
              <a:solidFill>
                <a:srgbClr val="000000"/>
              </a:solidFill>
              <a:latin typeface="Tahoma"/>
            </a:endParaRPr>
          </a:p>
        </p:txBody>
      </p:sp>
      <p:pic>
        <p:nvPicPr>
          <p:cNvPr id="100" name="" descr=""/>
          <p:cNvPicPr/>
          <p:nvPr/>
        </p:nvPicPr>
        <p:blipFill>
          <a:blip r:embed="rId1"/>
          <a:stretch/>
        </p:blipFill>
        <p:spPr>
          <a:xfrm>
            <a:off x="685800" y="2590920"/>
            <a:ext cx="7848720" cy="260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ife Cycle Assurance</a:t>
            </a:r>
            <a:endParaRPr b="0" lang="en-US" sz="4400" spc="-1" strike="noStrike">
              <a:solidFill>
                <a:srgbClr val="000000"/>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eption</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l focus is on policy and requirements</a:t>
            </a:r>
            <a:endParaRPr b="0" lang="en-US" sz="1600" spc="-1" strike="noStrike">
              <a:solidFill>
                <a:srgbClr val="000000"/>
              </a:solidFill>
              <a:latin typeface="Tahoma"/>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ufacture</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 mechanisms to enforce policy</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ive evidence that mechanisms are appropriate</a:t>
            </a:r>
            <a:endParaRPr b="0" lang="en-US" sz="1600" spc="-1" strike="noStrike">
              <a:solidFill>
                <a:srgbClr val="000000"/>
              </a:solidFill>
              <a:latin typeface="Tahoma"/>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loyment</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pare operational plans that realize policy goals</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mechanism for distribution and delivery that assures product integrity</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rt appropriate configuration</a:t>
            </a:r>
            <a:endParaRPr b="0" lang="en-US" sz="1600" spc="-1" strike="noStrike">
              <a:solidFill>
                <a:srgbClr val="000000"/>
              </a:solidFill>
              <a:latin typeface="Tahoma"/>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elded Product Life</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date and patch mechanism</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stomer support</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t decommissioning and end of lif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surance</a:t>
            </a:r>
            <a:endParaRPr b="0" lang="en-US" sz="4400" spc="-1" strike="noStrike">
              <a:solidFill>
                <a:srgbClr val="000000"/>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yth or Realit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we behaving like good engineers and avoiding the Failures of Pas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are we alchemists promising to make gold out of manure?  </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really cared about code insertion attacks would we use C for routine programming 18 years after the Morris w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founding Issue</a:t>
            </a:r>
            <a:endParaRPr b="0" lang="en-US" sz="4400" spc="-1" strike="noStrike">
              <a:solidFill>
                <a:srgbClr val="000000"/>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ftware Engineering which matters more:</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ople</a:t>
            </a:r>
            <a:endParaRPr b="0" lang="en-US" sz="24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a:t>
            </a:r>
            <a:endParaRPr b="0" lang="en-US" sz="24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vidence of which I am aware says people matter more than tools or proces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this, can we achieve assurance by mandating tools and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derson comments</a:t>
            </a:r>
            <a:endParaRPr b="0" lang="en-US" sz="4400" spc="-1" strike="noStrike">
              <a:solidFill>
                <a:srgbClr val="000000"/>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s custodiet ipsos custod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economic incentive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are the player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s?  Developers?  Acquisition agents?</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low assurance software dictated by market for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 do you trust an Airplane?</a:t>
            </a:r>
            <a:endParaRPr b="0" lang="en-US" sz="3600" spc="-1" strike="noStrike">
              <a:solidFill>
                <a:srgbClr val="000000"/>
              </a:solidFill>
              <a:latin typeface="Tahoma"/>
            </a:endParaRPr>
          </a:p>
        </p:txBody>
      </p:sp>
      <p:sp>
        <p:nvSpPr>
          <p:cNvPr id="4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do you trust more?  Why?</a:t>
            </a:r>
            <a:endParaRPr b="0" lang="en-US" sz="2400" spc="-1" strike="noStrike">
              <a:solidFill>
                <a:srgbClr val="000000"/>
              </a:solidFill>
              <a:latin typeface="Tahoma"/>
            </a:endParaRPr>
          </a:p>
        </p:txBody>
      </p:sp>
      <p:pic>
        <p:nvPicPr>
          <p:cNvPr id="48" name="" descr=""/>
          <p:cNvPicPr/>
          <p:nvPr/>
        </p:nvPicPr>
        <p:blipFill>
          <a:blip r:embed="rId1"/>
          <a:stretch/>
        </p:blipFill>
        <p:spPr>
          <a:xfrm>
            <a:off x="0" y="2286000"/>
            <a:ext cx="5334120" cy="1747800"/>
          </a:xfrm>
          <a:prstGeom prst="rect">
            <a:avLst/>
          </a:prstGeom>
          <a:ln w="0">
            <a:noFill/>
          </a:ln>
        </p:spPr>
      </p:pic>
      <p:pic>
        <p:nvPicPr>
          <p:cNvPr id="49" name="" descr=""/>
          <p:cNvPicPr/>
          <p:nvPr/>
        </p:nvPicPr>
        <p:blipFill>
          <a:blip r:embed="rId2"/>
          <a:stretch/>
        </p:blipFill>
        <p:spPr>
          <a:xfrm>
            <a:off x="5562720" y="2438280"/>
            <a:ext cx="3047760" cy="1371600"/>
          </a:xfrm>
          <a:prstGeom prst="rect">
            <a:avLst/>
          </a:prstGeom>
          <a:ln w="0">
            <a:noFill/>
          </a:ln>
        </p:spPr>
      </p:pic>
      <p:pic>
        <p:nvPicPr>
          <p:cNvPr id="50" name="" descr=""/>
          <p:cNvPicPr/>
          <p:nvPr/>
        </p:nvPicPr>
        <p:blipFill>
          <a:blip r:embed="rId3"/>
          <a:stretch/>
        </p:blipFill>
        <p:spPr>
          <a:xfrm>
            <a:off x="7391520" y="1447920"/>
            <a:ext cx="1133280" cy="846000"/>
          </a:xfrm>
          <a:prstGeom prst="rect">
            <a:avLst/>
          </a:prstGeom>
          <a:ln w="0">
            <a:noFill/>
          </a:ln>
        </p:spPr>
      </p:pic>
      <p:sp>
        <p:nvSpPr>
          <p:cNvPr id="51" name=""/>
          <p:cNvSpPr/>
          <p:nvPr/>
        </p:nvSpPr>
        <p:spPr>
          <a:xfrm>
            <a:off x="0" y="6248520"/>
            <a:ext cx="5181480" cy="477720"/>
          </a:xfrm>
          <a:prstGeom prst="rect">
            <a:avLst/>
          </a:prstGeom>
          <a:solidFill>
            <a:srgbClr val="ffffd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SA images from web site:  </a:t>
            </a:r>
            <a:r>
              <a:rPr b="0" lang="en-US" sz="1000" spc="-1" strike="noStrike" u="sng">
                <a:solidFill>
                  <a:srgbClr val="ff5050"/>
                </a:solidFill>
                <a:uFillTx/>
                <a:latin typeface="Times New Roman"/>
                <a:hlinkClick r:id="rId4"/>
              </a:rPr>
              <a:t>http://www.dfrc.nasa.gov/Gallery/Phot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eing images from web site:  http://www.boeing.com/companyoffices/gallery/flash.html</a:t>
            </a:r>
            <a:endParaRPr b="0" lang="en-US" sz="1000" spc="-1" strike="noStrike">
              <a:solidFill>
                <a:srgbClr val="000000"/>
              </a:solidFill>
              <a:latin typeface="Times New Roman"/>
            </a:endParaRPr>
          </a:p>
        </p:txBody>
      </p:sp>
      <p:pic>
        <p:nvPicPr>
          <p:cNvPr id="52" name="" descr=""/>
          <p:cNvPicPr/>
          <p:nvPr/>
        </p:nvPicPr>
        <p:blipFill>
          <a:blip r:embed="rId5"/>
          <a:stretch/>
        </p:blipFill>
        <p:spPr>
          <a:xfrm>
            <a:off x="1828800" y="4191120"/>
            <a:ext cx="2590920" cy="2046240"/>
          </a:xfrm>
          <a:prstGeom prst="rect">
            <a:avLst/>
          </a:prstGeom>
          <a:ln w="0">
            <a:noFill/>
          </a:ln>
        </p:spPr>
      </p:pic>
      <p:pic>
        <p:nvPicPr>
          <p:cNvPr id="53" name="" descr=""/>
          <p:cNvPicPr/>
          <p:nvPr/>
        </p:nvPicPr>
        <p:blipFill>
          <a:blip r:embed="rId6"/>
          <a:stretch/>
        </p:blipFill>
        <p:spPr>
          <a:xfrm>
            <a:off x="5257800" y="4332240"/>
            <a:ext cx="3886200" cy="252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derson (cont)</a:t>
            </a:r>
            <a:endParaRPr b="0" lang="en-US" sz="4400" spc="-1" strike="noStrike">
              <a:solidFill>
                <a:srgbClr val="000000"/>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Government agencies’ … dream is to be able to buy commercial off-the-shelf (COTS) products, replace a small number of components …, and end up with something they can use with existing defense networks.   … There is little concern with usability …  This wish list is unrealistic given not just the cost of high assurance, but also the primacy of time-to-market, …, and the need for frequent product versioning to prevent the commoditization of marke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derson scenario</a:t>
            </a:r>
            <a:endParaRPr b="0" lang="en-US" sz="4400" spc="-1" strike="noStrike">
              <a:solidFill>
                <a:srgbClr val="000000"/>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ddy, IRA terrorist:  1,000 hours per year</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s 1 exploitable bug</a:t>
            </a:r>
            <a:endParaRPr b="0"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an, GCHQ + NSA:  10,000,000 hours per year</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s 10,000 bugs</a:t>
            </a:r>
            <a:endParaRPr b="0"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ty Brian found Paddy’s bug?</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than 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valuation</a:t>
            </a:r>
            <a:endParaRPr b="0" lang="en-US" sz="4000" spc="-1" strike="noStrike">
              <a:solidFill>
                <a:srgbClr val="000000"/>
              </a:solidFill>
              <a:latin typeface="Tahoma"/>
            </a:endParaRPr>
          </a:p>
        </p:txBody>
      </p:sp>
      <p:grpSp>
        <p:nvGrpSpPr>
          <p:cNvPr id="114" name=""/>
          <p:cNvGrpSpPr/>
          <p:nvPr/>
        </p:nvGrpSpPr>
        <p:grpSpPr>
          <a:xfrm>
            <a:off x="1219320" y="1981080"/>
            <a:ext cx="6703920" cy="3656160"/>
            <a:chOff x="1219320" y="1981080"/>
            <a:chExt cx="6703920" cy="3656160"/>
          </a:xfrm>
        </p:grpSpPr>
        <p:sp>
          <p:nvSpPr>
            <p:cNvPr id="115" name=""/>
            <p:cNvSpPr/>
            <p:nvPr/>
          </p:nvSpPr>
          <p:spPr>
            <a:xfrm>
              <a:off x="1249560" y="3377160"/>
              <a:ext cx="176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ea typeface="Arial"/>
                </a:rPr>
                <a:t>lo</a:t>
              </a:r>
              <a:endParaRPr b="0" lang="en-US" sz="1600" spc="-1" strike="noStrike">
                <a:solidFill>
                  <a:srgbClr val="000000"/>
                </a:solidFill>
                <a:latin typeface="Times New Roman"/>
              </a:endParaRPr>
            </a:p>
          </p:txBody>
        </p:sp>
        <p:sp>
          <p:nvSpPr>
            <p:cNvPr id="116" name=""/>
            <p:cNvSpPr/>
            <p:nvPr/>
          </p:nvSpPr>
          <p:spPr>
            <a:xfrm>
              <a:off x="6163200" y="3377160"/>
              <a:ext cx="176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ea typeface="Arial"/>
                </a:rPr>
                <a:t>hi</a:t>
              </a:r>
              <a:endParaRPr b="0" lang="en-US" sz="1600" spc="-1" strike="noStrike">
                <a:solidFill>
                  <a:srgbClr val="000000"/>
                </a:solidFill>
                <a:latin typeface="Times New Roman"/>
              </a:endParaRPr>
            </a:p>
          </p:txBody>
        </p:sp>
        <p:sp>
          <p:nvSpPr>
            <p:cNvPr id="117" name=""/>
            <p:cNvSpPr/>
            <p:nvPr/>
          </p:nvSpPr>
          <p:spPr>
            <a:xfrm>
              <a:off x="2412720" y="3339720"/>
              <a:ext cx="327960" cy="171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6185160" y="3339720"/>
              <a:ext cx="336240" cy="171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7240" y="2874960"/>
              <a:ext cx="302400" cy="2228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160080" y="2539080"/>
              <a:ext cx="233280" cy="2869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834360" y="2374200"/>
              <a:ext cx="122400" cy="349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850720" y="2875680"/>
              <a:ext cx="295920" cy="2217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5420880" y="2537640"/>
              <a:ext cx="239040" cy="2898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4863960" y="2374200"/>
              <a:ext cx="122400" cy="349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4406040" y="2312640"/>
              <a:ext cx="8640" cy="3506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4411080" y="2895120"/>
              <a:ext cx="387000" cy="1828080"/>
            </a:xfrm>
            <a:prstGeom prst="line">
              <a:avLst/>
            </a:prstGeom>
            <a:ln w="3168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1981080"/>
              <a:ext cx="6441840" cy="274212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19320" y="4723200"/>
              <a:ext cx="6441840" cy="914040"/>
            </a:xfrm>
            <a:prstGeom prst="rect">
              <a:avLst/>
            </a:prstGeom>
            <a:solidFill>
              <a:srgbClr val="292929"/>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d9"/>
                  </a:solidFill>
                  <a:latin typeface="Times New Roman"/>
                  <a:ea typeface="Arial"/>
                </a:rPr>
                <a:t>assure-o-mete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valuation</a:t>
            </a:r>
            <a:endParaRPr b="0" lang="en-US" sz="4000" spc="-1" strike="noStrike">
              <a:solidFill>
                <a:srgbClr val="000000"/>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D identifies computer security as important in ‘70s (Anderson 1972)</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gnizes trend toward networking:  computing is communication</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 forces dictate they purchase products built outside of the DoD</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Procurement guidelines for DoD to purchase security critical softwa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rst Step</a:t>
            </a:r>
            <a:endParaRPr b="0" lang="en-US" sz="4000" spc="-1" strike="noStrike">
              <a:solidFill>
                <a:srgbClr val="000000"/>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mes Anderson’s “Computer Security Planning Study” provides a blueprint</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analysi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level opera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s connected to the worl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ine opera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s</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on</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engineering</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components (hardware &amp; softwar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book of Computer Security Techniqu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ssues</a:t>
            </a:r>
            <a:endParaRPr b="0" lang="en-US" sz="4000" spc="-1" strike="noStrike">
              <a:solidFill>
                <a:srgbClr val="000000"/>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accelerate maturation of a discipline?</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  codify best practice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f current practice is insufficien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gislate what we think best practices should b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rst Attempt</a:t>
            </a:r>
            <a:endParaRPr b="0" lang="en-US" sz="3600" spc="-1" strike="noStrike">
              <a:solidFill>
                <a:srgbClr val="000000"/>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sted Computer Systems Evaluation Criteria (aka “Orange Book”)</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 systems in a scale:</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1, C2, B1, B2, B3, A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range Book</a:t>
            </a:r>
            <a:endParaRPr b="0" lang="en-US" sz="3600" spc="-1" strike="noStrike">
              <a:solidFill>
                <a:srgbClr val="000000"/>
              </a:solidFill>
              <a:latin typeface="Taho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1:  Discretionary access control by groups of user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2:  Discretionary access control by single users; object reuse; audi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arefully configured commercial syst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range Book (cont)</a:t>
            </a:r>
            <a:endParaRPr b="0" lang="en-US" sz="3600" spc="-1" strike="noStrike">
              <a:solidFill>
                <a:srgbClr val="000000"/>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1:  Mandatory access control.</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 labels; BLP-like policy enforced</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2:  Structured protection</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1 +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model of policy,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of of consistency,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for administration and configuration managemen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B structured and interface clearly define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er channel analysi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sted path from User to TCB</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e testing (penetration test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range Book (cont)</a:t>
            </a:r>
            <a:endParaRPr b="0" lang="en-US" sz="3600" spc="-1" strike="noStrike">
              <a:solidFill>
                <a:srgbClr val="000000"/>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3:  Security domain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B2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B </a:t>
            </a:r>
            <a:endParaRPr b="0" lang="en-US" sz="2000" spc="-1" strike="noStrike">
              <a:solidFill>
                <a:srgbClr val="000000"/>
              </a:solidFill>
              <a:latin typeface="Tahoma"/>
            </a:endParaRPr>
          </a:p>
          <a:p>
            <a:pPr lvl="2" marL="108576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mal</a:t>
            </a:r>
            <a:endParaRPr b="0" lang="en-US" sz="1800" spc="-1" strike="noStrike">
              <a:solidFill>
                <a:srgbClr val="000000"/>
              </a:solidFill>
              <a:latin typeface="Tahoma"/>
            </a:endParaRPr>
          </a:p>
          <a:p>
            <a:pPr lvl="2" marL="108576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ates all requests</a:t>
            </a:r>
            <a:endParaRPr b="0" lang="en-US" sz="1800" spc="-1" strike="noStrike">
              <a:solidFill>
                <a:srgbClr val="000000"/>
              </a:solidFill>
              <a:latin typeface="Tahoma"/>
            </a:endParaRPr>
          </a:p>
          <a:p>
            <a:pPr lvl="2" marL="108576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mper resistant</a:t>
            </a:r>
            <a:endParaRPr b="0" lang="en-US" sz="1800" spc="-1" strike="noStrike">
              <a:solidFill>
                <a:srgbClr val="000000"/>
              </a:solidFill>
              <a:latin typeface="Tahoma"/>
            </a:endParaRPr>
          </a:p>
          <a:p>
            <a:pPr lvl="2" marL="108576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le to withstand formal analysis and testing</a:t>
            </a:r>
            <a:endParaRPr b="0" lang="en-US" sz="18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time monitoring and alerting</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ed techniques used in implementation</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1:  Verification design</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B3, but formal techniques are used to prove equivalence between TCB spec and security polic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cussion points:</a:t>
            </a:r>
            <a:endParaRPr b="0" lang="en-US" sz="3600" spc="-1" strike="noStrike">
              <a:solidFill>
                <a:srgbClr val="000000"/>
              </a:solidFill>
              <a:latin typeface="Tahoma"/>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s flying?</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long have the airframes been in servic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benefit:  If you want to go into space you don’t have a lot of choice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st to limit to “apples to app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range Book evaluations</a:t>
            </a:r>
            <a:endParaRPr b="0" lang="en-US" sz="3600" spc="-1" strike="noStrike">
              <a:solidFill>
                <a:srgbClr val="000000"/>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nge book evaluators worked for the governmen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 is an interested party here (purchaser)</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s took a lot of time</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s, even if successfully certified were generations behind current technology</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production and certification was very expensive</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ange book evaluation led to paralysi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rs and consumers were both frustra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range Book issues</a:t>
            </a:r>
            <a:endParaRPr b="0" lang="en-US" sz="4400" spc="-1" strike="noStrike">
              <a:solidFill>
                <a:srgbClr val="000000"/>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ed in broad domains</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ually expanded to “rainbow series”</a:t>
            </a:r>
            <a:endParaRPr b="0" lang="en-US" sz="24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level increased</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ion of threat model</a:t>
            </a:r>
            <a:endParaRPr b="0" lang="en-US" sz="24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ion of required mechanisms</a:t>
            </a:r>
            <a:endParaRPr b="0" lang="en-US" sz="24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ion of analysis</a:t>
            </a:r>
            <a:endParaRPr b="0" lang="en-US" sz="24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any one dimension is hard, doing 3 simultaneously is nearly impossi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rypto Standards</a:t>
            </a:r>
            <a:endParaRPr b="0" lang="en-US" sz="4400" spc="-1" strike="noStrike">
              <a:solidFill>
                <a:srgbClr val="000000"/>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shop/Sullivan outline a success in certification standards for crypto</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main was narrow</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was informative to developers (evaluators found real bugs)</a:t>
            </a:r>
            <a:endParaRPr b="0" lang="en-US" sz="3200" spc="-1" strike="noStrike">
              <a:solidFill>
                <a:srgbClr val="000000"/>
              </a:solidFill>
              <a:latin typeface="Tahoma"/>
            </a:endParaRPr>
          </a:p>
          <a:p>
            <a:pPr lvl="1" marL="705600" indent="-2714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ng value is key!</a:t>
            </a:r>
            <a:endParaRPr b="0" lang="en-US" sz="28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ceived as a succ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n of Orange Book</a:t>
            </a:r>
            <a:endParaRPr b="0" lang="en-US" sz="4400" spc="-1" strike="noStrike">
              <a:solidFill>
                <a:srgbClr val="000000"/>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Criteria attempts to “fix” Orange book issues</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s conflated dimensions</a:t>
            </a:r>
            <a:endParaRPr b="0" lang="en-US" sz="28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a Target of Evaluation (ToE) </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a Security Target (ST)</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a Protection Profile (PP) reflecting threat context and domain-specific requirements</a:t>
            </a:r>
            <a:endParaRPr b="0" lang="en-US" sz="2400" spc="-1" strike="noStrike">
              <a:solidFill>
                <a:srgbClr val="000000"/>
              </a:solidFill>
              <a:latin typeface="Tahoma"/>
            </a:endParaRPr>
          </a:p>
          <a:p>
            <a:pPr lvl="1" marL="720720" indent="-277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 development by “Evaluation Assurance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aluation Assurance Level</a:t>
            </a:r>
            <a:endParaRPr b="0" lang="en-US" sz="4400" spc="-1" strike="noStrike">
              <a:solidFill>
                <a:srgbClr val="000000"/>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1:  functionally test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2:  structurally test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3:  methodically tested and check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4:  methodically designed, tested and review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5:  semiformally designed and test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6:  semiformally verified design and test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L 7:  formally verified design and te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mon Criteria</a:t>
            </a:r>
            <a:endParaRPr b="0" lang="en-US" sz="4400" spc="-1" strike="noStrike">
              <a:solidFill>
                <a:srgbClr val="000000"/>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tional standar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L 1 -- 5 transferred across border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L 6 and 7 are no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ollow up</a:t>
            </a:r>
            <a:endParaRPr b="0" lang="en-US" sz="4400" spc="-1" strike="noStrike">
              <a:solidFill>
                <a:srgbClr val="000000"/>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IST:  National Institute of Standards</a:t>
            </a:r>
            <a:endParaRPr b="0" lang="en-US" sz="28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ed to make fire fighting equipment interoperable across municipal boundaries</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tasked with standards that support commerce</a:t>
            </a:r>
            <a:endParaRPr b="0" lang="en-US" sz="24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A:  National Security Agency</a:t>
            </a:r>
            <a:endParaRPr b="0" lang="en-US" sz="28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ls Intelligence</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ct all sensitive information for DoD</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the Internet safe for commerce (expanded interpretation of mission in last deca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IST and NSA</a:t>
            </a:r>
            <a:endParaRPr b="0" lang="en-US" sz="4400" spc="-1" strike="noStrike">
              <a:solidFill>
                <a:srgbClr val="000000"/>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th agencies are involved in CC and Crypto certific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IST is the agency designated with to evaluated Engineering Assurance Levels 1 - 5 and FIPS crypt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SA is the agency designated to evaluate EAL 6 and 7 and DoD crypt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SA’s Crypto levels</a:t>
            </a:r>
            <a:endParaRPr b="0" lang="en-US" sz="4400" spc="-1" strike="noStrike">
              <a:solidFill>
                <a:srgbClr val="000000"/>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1:  Used for classified information.  Tamper resistant.  No tempest radiation.  Uses NSA certified algorith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2:  NSA endorsed for telecommunications.  Not for classified data.  Government proprietary algorith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3:  NIST certified FIPS crypto</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4:  Registered with NIST but not certif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sues</a:t>
            </a:r>
            <a:endParaRPr b="0" lang="en-US" sz="3600" spc="-1" strike="noStrike">
              <a:solidFill>
                <a:srgbClr val="000000"/>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llivan and R Anderson present two perspectives on the result</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Orange Book” over promised for formal method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ations failed to deliver most trusted products</a:t>
            </a:r>
            <a:endParaRPr b="0" lang="en-US" sz="2000" spc="-1" strike="noStrike">
              <a:solidFill>
                <a:srgbClr val="000000"/>
              </a:solidFill>
              <a:latin typeface="Tahoma"/>
            </a:endParaRPr>
          </a:p>
          <a:p>
            <a:pPr lvl="2" marL="108576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engineers thought they weren’t solving the </a:t>
            </a:r>
            <a:r>
              <a:rPr b="1" lang="en-US" sz="1800" spc="-1" strike="noStrike">
                <a:solidFill>
                  <a:srgbClr val="000000"/>
                </a:solidFill>
                <a:latin typeface="Tahoma"/>
              </a:rPr>
              <a:t>real</a:t>
            </a:r>
            <a:r>
              <a:rPr b="0" lang="en-US" sz="1800" spc="-1" strike="noStrike">
                <a:solidFill>
                  <a:srgbClr val="000000"/>
                </a:solidFill>
                <a:latin typeface="Tahoma"/>
              </a:rPr>
              <a:t> problems</a:t>
            </a:r>
            <a:endParaRPr b="0" lang="en-US" sz="18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on Criteria attempt to avoid some Orange Book faults</a:t>
            </a:r>
            <a:endParaRPr b="0" lang="en-US" sz="2000" spc="-1" strike="noStrike">
              <a:solidFill>
                <a:srgbClr val="000000"/>
              </a:solidFill>
              <a:latin typeface="Tahoma"/>
            </a:endParaRPr>
          </a:p>
          <a:p>
            <a:pPr lvl="2" marL="108576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ll:  some science, some science fiction (EAL 6 and 7)</a:t>
            </a:r>
            <a:endParaRPr b="0" lang="en-US" sz="18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post-hoc analysis ever wor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usting Commercial Aircraft</a:t>
            </a:r>
            <a:endParaRPr b="0" lang="en-US" sz="3600" spc="-1" strike="noStrike">
              <a:solidFill>
                <a:srgbClr val="000000"/>
              </a:solidFill>
              <a:latin typeface="Tahom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integrit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scope of project; goal of aircraft</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integrit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of the art engineering analysis of desig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ve modeling (physical and simulation) based on established best-practices of a mature engineering disciplin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A review</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facturing integrity</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ve process controls and tests for all componen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or appropriate to risk (entertainment system vs. autopilo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oD practice</a:t>
            </a:r>
            <a:endParaRPr b="0" lang="en-US" sz="4400" spc="-1" strike="noStrike">
              <a:solidFill>
                <a:srgbClr val="000000"/>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is less strict than the dogm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COTS strategy” appears to bypass CC and Orange Book</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has become a barrier to procurement</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 ask for too much assurance and my procurement is delayed I fail at my mi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ooking Forward</a:t>
            </a:r>
            <a:endParaRPr b="0" lang="en-US" sz="4000" spc="-1" strike="noStrike">
              <a:solidFill>
                <a:srgbClr val="000000"/>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luck on the exa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to hand in your term paper proposal at exa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fun with Professor Binkle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a:t>
            </a:r>
            <a:endParaRPr b="0" lang="en-US" sz="4000" spc="-1" strike="noStrike">
              <a:solidFill>
                <a:srgbClr val="000000"/>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usting  Commercial Aircraft</a:t>
            </a:r>
            <a:endParaRPr b="0" lang="en-US" sz="3600" spc="-1" strike="noStrike">
              <a:solidFill>
                <a:srgbClr val="000000"/>
              </a:solidFill>
              <a:latin typeface="Tahoma"/>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al integrity</a:t>
            </a:r>
            <a:endParaRPr b="0" lang="en-US" sz="24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 is performed by certified mechanics </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 performed on schedule</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 includes diagnostic measurements confirming conformance to design specifications</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lot is licensed to fly</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lot inspects aircraft prior to flight (and she’s on the plane!)</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lot does not perform maintenance (Separation of duty)</a:t>
            </a:r>
            <a:endParaRPr b="0" lang="en-US" sz="20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edback</a:t>
            </a:r>
            <a:endParaRPr b="0" lang="en-US" sz="24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investigation of failures</a:t>
            </a:r>
            <a:endParaRPr b="0" lang="en-US" sz="2000" spc="-1" strike="noStrike">
              <a:solidFill>
                <a:srgbClr val="000000"/>
              </a:solidFill>
              <a:latin typeface="Tahoma"/>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design defects or manufacturing defects are identified the entire fleet can be grounded or repair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re all Aircraft Trustworthy?</a:t>
            </a:r>
            <a:endParaRPr b="0" lang="en-US" sz="3600" spc="-1" strike="noStrike">
              <a:solidFill>
                <a:srgbClr val="000000"/>
              </a:solidFill>
              <a:latin typeface="Tahoma"/>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regulations reflect risk</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udely:  Level of assurance increases as potential cost of failure increas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rcial aviation is “high assura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n you trust systems that include software?</a:t>
            </a:r>
            <a:endParaRPr b="0" lang="en-US" sz="3600" spc="-1" strike="noStrike">
              <a:solidFill>
                <a:srgbClr val="000000"/>
              </a:solidFill>
              <a:latin typeface="Tahoma"/>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modern aircraft are “fly by wir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we trust the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A</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ts of test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ts of review</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ts of process-based controls of both</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ques that work for high assurance embedded systems are hard to sca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usting Information Systems</a:t>
            </a:r>
            <a:endParaRPr b="0" lang="en-US" sz="3600" spc="-1" strike="noStrike">
              <a:solidFill>
                <a:srgbClr val="000000"/>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can we trust an information syste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can we trust it to do?</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trust a mechanism to implement a policy?</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ll does the analogy to aviation app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22:20:51Z</dcterms:created>
  <dc:creator>James Hook</dc:creator>
  <dc:description/>
  <dc:language>en-US</dc:language>
  <cp:lastModifiedBy>James Hook</cp:lastModifiedBy>
  <cp:lastPrinted>2005-10-17T17:44:06Z</cp:lastPrinted>
  <dcterms:modified xsi:type="dcterms:W3CDTF">2008-04-29T22:52:41Z</dcterms:modified>
  <cp:revision>37</cp:revision>
  <dc:subject/>
  <dc:title>Lecture 2: Access Control</dc:title>
</cp:coreProperties>
</file>