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3978-6C18-4EF2-B501-8FD8FEAB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882720"/>
            <a:ext cx="777240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25280"/>
            <a:ext cx="777240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40BE-708B-41E6-B68A-8CEEB169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882720"/>
            <a:ext cx="379260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882720"/>
            <a:ext cx="379260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5280"/>
            <a:ext cx="379260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25280"/>
            <a:ext cx="379260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B213-DED2-482E-A83B-9E65894B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882720"/>
            <a:ext cx="250236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882720"/>
            <a:ext cx="250236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882720"/>
            <a:ext cx="250236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25280"/>
            <a:ext cx="250236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25280"/>
            <a:ext cx="250236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25280"/>
            <a:ext cx="250236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1C5C-BA83-4FE7-BEFD-4E5D0DDD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882720"/>
            <a:ext cx="7772400" cy="54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FBA7-3E3D-406E-99FD-816951AB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882720"/>
            <a:ext cx="7772400" cy="54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E631-AFC2-4387-B827-7FEE91BB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882720"/>
            <a:ext cx="3792600" cy="54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882720"/>
            <a:ext cx="3792600" cy="54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0AEA-6CE6-44B7-86CE-7A79F7EA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FEE5-F694-46A4-8BE1-81270BA7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EAE3-6D3E-4944-9F17-D5F6A088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882720"/>
            <a:ext cx="379260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882720"/>
            <a:ext cx="3792600" cy="54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25280"/>
            <a:ext cx="379260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7322-742A-423D-A524-21157B75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882720"/>
            <a:ext cx="3792600" cy="54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882720"/>
            <a:ext cx="379260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25280"/>
            <a:ext cx="379260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777-533A-453E-ACDE-4AB67116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882720"/>
            <a:ext cx="379260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882720"/>
            <a:ext cx="379260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25280"/>
            <a:ext cx="777240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2A57-F099-4C04-82CF-9DF7944F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882720"/>
            <a:ext cx="7772400" cy="54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6380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6380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6380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BC21-1BAE-4CF5-A1B3-579E9A37C66C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82720"/>
            <a:ext cx="777240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tra Long Life Avionics Syste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Y02 Report</a:t>
            </a:r>
            <a:br>
              <a:rPr sz="2800"/>
            </a:br>
            <a:br>
              <a:rPr sz="1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31, 200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9040"/>
            <a:ext cx="6611760" cy="27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4360" indent="0" algn="just">
              <a:spcBef>
                <a:spcPts val="601"/>
              </a:spcBef>
              <a:buNone/>
              <a:tabLst>
                <a:tab algn="l" pos="0"/>
                <a:tab algn="l" pos="1719360"/>
                <a:tab algn="l" pos="290988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Manage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Neville Marz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360" indent="0" algn="just">
              <a:spcBef>
                <a:spcPts val="601"/>
              </a:spcBef>
              <a:buNone/>
              <a:tabLst>
                <a:tab algn="l" pos="0"/>
                <a:tab algn="l" pos="1719360"/>
                <a:tab algn="l" pos="290988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Savio Ch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360" indent="0" algn="just">
              <a:spcBef>
                <a:spcPts val="601"/>
              </a:spcBef>
              <a:buNone/>
              <a:tabLst>
                <a:tab algn="l" pos="0"/>
                <a:tab algn="l" pos="1719360"/>
                <a:tab algn="l" pos="290988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Abhijit Sengup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360" indent="0" algn="just">
              <a:spcBef>
                <a:spcPts val="601"/>
              </a:spcBef>
              <a:buNone/>
              <a:tabLst>
                <a:tab algn="l" pos="0"/>
                <a:tab algn="l" pos="1719360"/>
                <a:tab algn="l" pos="290988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Ali Bakh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360" indent="0" algn="just">
              <a:spcBef>
                <a:spcPts val="601"/>
              </a:spcBef>
              <a:buNone/>
              <a:tabLst>
                <a:tab algn="l" pos="0"/>
                <a:tab algn="l" pos="1719360"/>
                <a:tab algn="l" pos="290988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Tuan 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360" indent="0" algn="just">
              <a:spcBef>
                <a:spcPts val="601"/>
              </a:spcBef>
              <a:buNone/>
              <a:tabLst>
                <a:tab algn="l" pos="0"/>
                <a:tab algn="l" pos="1719360"/>
                <a:tab algn="l" pos="290988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Tooraj K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2640" y="228240"/>
            <a:ext cx="81187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ovative Approaches to Improve Efficiency of Fault Tolerant System Archite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640" y="1279440"/>
            <a:ext cx="80107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“Generic Function Blocks” that can be reconfigured to replace any type of failed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wireless interconnection to facilitate reconfiguration of connectivity among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Distributed Autonomous Testing for fault detection rather than a centralized fault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ult-Tolerant Avionics Architecture Using Generic Function Blo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366280" y="1457280"/>
            <a:ext cx="1444680" cy="500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38360" y="2440080"/>
            <a:ext cx="1100160" cy="6760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38360" y="1655640"/>
            <a:ext cx="1100160" cy="6764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80080" y="3225960"/>
            <a:ext cx="1100160" cy="676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ic Function 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80080" y="4010040"/>
            <a:ext cx="1101600" cy="67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ic Function 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38360" y="4797360"/>
            <a:ext cx="1100160" cy="67644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38360" y="4010040"/>
            <a:ext cx="1101600" cy="67788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38360" y="3225960"/>
            <a:ext cx="1100160" cy="67608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itu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38360" y="5583240"/>
            <a:ext cx="1100160" cy="67644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i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rument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80080" y="4797360"/>
            <a:ext cx="1100160" cy="67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ic Function 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ult-Tolerant Avionics Architecture Using Generic Function Blo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366280" y="1457280"/>
            <a:ext cx="1444680" cy="500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38360" y="2440080"/>
            <a:ext cx="1100160" cy="6760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38360" y="1655640"/>
            <a:ext cx="1100160" cy="6764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80080" y="3225960"/>
            <a:ext cx="1100160" cy="6760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44840" y="1670040"/>
            <a:ext cx="1082520" cy="625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517840" y="1722240"/>
            <a:ext cx="1082520" cy="625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80080" y="4010040"/>
            <a:ext cx="1101600" cy="67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ic Function 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38360" y="4797360"/>
            <a:ext cx="1100160" cy="67644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38360" y="4010040"/>
            <a:ext cx="1101600" cy="67788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38360" y="3225960"/>
            <a:ext cx="1100160" cy="67608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itu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38360" y="5583240"/>
            <a:ext cx="1100160" cy="67644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i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rument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80080" y="4797360"/>
            <a:ext cx="1100160" cy="67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ic Function 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ult-Tolerant Avionics Architecture Using Generic Function Blo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366280" y="1457280"/>
            <a:ext cx="1444680" cy="500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38360" y="2440080"/>
            <a:ext cx="1100160" cy="6760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38360" y="1655640"/>
            <a:ext cx="1100160" cy="6764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80080" y="3225960"/>
            <a:ext cx="1100160" cy="6760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44840" y="1670040"/>
            <a:ext cx="1082520" cy="625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517840" y="1722240"/>
            <a:ext cx="1082520" cy="625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80080" y="4010040"/>
            <a:ext cx="1101600" cy="67788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38360" y="4797360"/>
            <a:ext cx="1100160" cy="67644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38360" y="4010040"/>
            <a:ext cx="1101600" cy="67788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38360" y="3225960"/>
            <a:ext cx="1100160" cy="67608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itu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38360" y="5583240"/>
            <a:ext cx="1100160" cy="67644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i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rument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44840" y="4017960"/>
            <a:ext cx="1082520" cy="625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517840" y="4070160"/>
            <a:ext cx="1082520" cy="625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80080" y="4797360"/>
            <a:ext cx="1100160" cy="67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ic Function 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ult-Tolerant Avionics Architecture Using Generic Function Blo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366280" y="1457280"/>
            <a:ext cx="1444680" cy="500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38360" y="2440080"/>
            <a:ext cx="1100160" cy="6760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38360" y="1655640"/>
            <a:ext cx="1100160" cy="6764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80080" y="3225960"/>
            <a:ext cx="1100160" cy="6760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44840" y="1670040"/>
            <a:ext cx="1082520" cy="625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517840" y="1722240"/>
            <a:ext cx="1082520" cy="625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80080" y="4010040"/>
            <a:ext cx="1101600" cy="67788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38360" y="4797360"/>
            <a:ext cx="1100160" cy="67644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8360" y="4010040"/>
            <a:ext cx="1101600" cy="67788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38360" y="3225960"/>
            <a:ext cx="1100160" cy="67608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itu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38360" y="5583240"/>
            <a:ext cx="1100160" cy="67644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i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rument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44840" y="4017960"/>
            <a:ext cx="1082520" cy="625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517840" y="4070160"/>
            <a:ext cx="1082520" cy="625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80080" y="4797360"/>
            <a:ext cx="1100160" cy="6764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89440" y="3235320"/>
            <a:ext cx="1082880" cy="625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662440" y="3287520"/>
            <a:ext cx="1082880" cy="625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nfiguration with Wireless Conne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58960" y="1821960"/>
            <a:ext cx="5853240" cy="3275640"/>
            <a:chOff x="1758960" y="1821960"/>
            <a:chExt cx="5853240" cy="3275640"/>
          </a:xfrm>
        </p:grpSpPr>
        <p:sp>
          <p:nvSpPr>
            <p:cNvPr id="202" name=""/>
            <p:cNvSpPr/>
            <p:nvPr/>
          </p:nvSpPr>
          <p:spPr>
            <a:xfrm>
              <a:off x="3513240" y="2638440"/>
              <a:ext cx="237960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Wireless Interconnectio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58960" y="1928880"/>
              <a:ext cx="1100160" cy="67608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40080" y="1928880"/>
              <a:ext cx="1103400" cy="677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ner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unction Bl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24440" y="1928880"/>
              <a:ext cx="1103400" cy="677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ner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unction Bl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12040" y="1941480"/>
              <a:ext cx="1100160" cy="67644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66880" y="3178080"/>
              <a:ext cx="1101600" cy="677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ner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unction Bl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43320" y="3170160"/>
              <a:ext cx="1100160" cy="67644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27680" y="3170160"/>
              <a:ext cx="1100160" cy="67644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12040" y="3170160"/>
              <a:ext cx="1100160" cy="676440"/>
            </a:xfrm>
            <a:prstGeom prst="rect">
              <a:avLst/>
            </a:prstGeom>
            <a:solidFill>
              <a:srgbClr val="ff7c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w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6880" y="4419720"/>
              <a:ext cx="1101600" cy="67788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le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43320" y="4411800"/>
              <a:ext cx="1100160" cy="67608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titu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27680" y="4411800"/>
              <a:ext cx="1100160" cy="67608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ienc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stru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12040" y="4411800"/>
              <a:ext cx="1100160" cy="67608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ienc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stru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3923640" y="2892240"/>
              <a:ext cx="1173960" cy="1173600"/>
              <a:chOff x="3923640" y="2892240"/>
              <a:chExt cx="1173960" cy="1173600"/>
            </a:xfrm>
          </p:grpSpPr>
          <p:sp>
            <p:nvSpPr>
              <p:cNvPr id="216" name=""/>
              <p:cNvSpPr/>
              <p:nvPr/>
            </p:nvSpPr>
            <p:spPr>
              <a:xfrm flipV="1" rot="19098000">
                <a:off x="4095000" y="3062880"/>
                <a:ext cx="830880" cy="83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14" y="29"/>
                    </a:moveTo>
                    <a:arcTo wR="10800" hR="10800" stAng="-5650283" swAng="5650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14" y="29"/>
                    </a:moveTo>
                    <a:arcTo wR="10800" hR="10800" stAng="-5650283" swAng="5650283"/>
                  </a:path>
                </a:pathLst>
              </a:custGeom>
              <a:noFill/>
              <a:ln w="158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 rot="19098000">
                <a:off x="4070880" y="3151080"/>
                <a:ext cx="653040" cy="647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14" y="29"/>
                    </a:moveTo>
                    <a:arcTo wR="10800" hR="10800" stAng="-5650283" swAng="5650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14" y="29"/>
                    </a:moveTo>
                    <a:arcTo wR="10800" hR="10800" stAng="-5650283" swAng="5650283"/>
                  </a:path>
                </a:pathLst>
              </a:custGeom>
              <a:noFill/>
              <a:ln w="158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19098000">
                <a:off x="4040280" y="3223440"/>
                <a:ext cx="4906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14" y="29"/>
                    </a:moveTo>
                    <a:arcTo wR="10800" hR="10800" stAng="-5650283" swAng="5650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14" y="29"/>
                    </a:moveTo>
                    <a:arcTo wR="10800" hR="10800" stAng="-5650283" swAng="5650283"/>
                  </a:path>
                </a:pathLst>
              </a:custGeom>
              <a:noFill/>
              <a:ln w="158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5717880" y="2399400"/>
              <a:ext cx="1259640" cy="1168920"/>
              <a:chOff x="5717880" y="2399400"/>
              <a:chExt cx="1259640" cy="1168920"/>
            </a:xfrm>
          </p:grpSpPr>
          <p:sp>
            <p:nvSpPr>
              <p:cNvPr id="220" name=""/>
              <p:cNvSpPr/>
              <p:nvPr/>
            </p:nvSpPr>
            <p:spPr>
              <a:xfrm flipH="1" flipV="1" rot="11647800">
                <a:off x="5910840" y="2502000"/>
                <a:ext cx="963360" cy="963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14" y="29"/>
                    </a:moveTo>
                    <a:arcTo wR="10800" hR="10800" stAng="-5650283" swAng="5650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14" y="29"/>
                    </a:moveTo>
                    <a:arcTo wR="10800" hR="10800" stAng="-5650283" swAng="5650283"/>
                  </a:path>
                </a:pathLst>
              </a:custGeom>
              <a:noFill/>
              <a:ln w="15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flipV="1" rot="11647800">
                <a:off x="5867640" y="2635200"/>
                <a:ext cx="830880" cy="830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14" y="29"/>
                    </a:moveTo>
                    <a:arcTo wR="10800" hR="10800" stAng="-5650283" swAng="5650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14" y="29"/>
                    </a:moveTo>
                    <a:arcTo wR="10800" hR="10800" stAng="-5650283" swAng="5650283"/>
                  </a:path>
                </a:pathLst>
              </a:custGeom>
              <a:noFill/>
              <a:ln w="15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 rot="11647800">
                <a:off x="5859000" y="2783880"/>
                <a:ext cx="653040" cy="64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14" y="29"/>
                    </a:moveTo>
                    <a:arcTo wR="10800" hR="10800" stAng="-5650283" swAng="5650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14" y="29"/>
                    </a:moveTo>
                    <a:arcTo wR="10800" hR="10800" stAng="-5650283" swAng="5650283"/>
                  </a:path>
                </a:pathLst>
              </a:custGeom>
              <a:noFill/>
              <a:ln w="15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 flipV="1" rot="11647800">
                <a:off x="5845320" y="2926440"/>
                <a:ext cx="487440" cy="482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14" y="29"/>
                    </a:moveTo>
                    <a:arcTo wR="10800" hR="10800" stAng="-5650283" swAng="5650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14" y="29"/>
                    </a:moveTo>
                    <a:arcTo wR="10800" hR="10800" stAng="-5650283" swAng="5650283"/>
                  </a:path>
                </a:pathLst>
              </a:custGeom>
              <a:noFill/>
              <a:ln w="15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 rot="11647800">
                <a:off x="5760000" y="3045600"/>
                <a:ext cx="403560" cy="3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14" y="29"/>
                    </a:moveTo>
                    <a:arcTo wR="10800" hR="10800" stAng="-5650283" swAng="5650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14" y="29"/>
                    </a:moveTo>
                    <a:arcTo wR="10800" hR="10800" stAng="-5650283" swAng="5650283"/>
                  </a:path>
                </a:pathLst>
              </a:custGeom>
              <a:noFill/>
              <a:ln w="15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2428920" y="3455280"/>
              <a:ext cx="1204560" cy="1298160"/>
              <a:chOff x="2428920" y="3455280"/>
              <a:chExt cx="1204560" cy="1298160"/>
            </a:xfrm>
          </p:grpSpPr>
          <p:sp>
            <p:nvSpPr>
              <p:cNvPr id="226" name=""/>
              <p:cNvSpPr/>
              <p:nvPr/>
            </p:nvSpPr>
            <p:spPr>
              <a:xfrm flipV="1" rot="15169800">
                <a:off x="2549520" y="3575880"/>
                <a:ext cx="963360" cy="963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14" y="29"/>
                    </a:moveTo>
                    <a:arcTo wR="10800" hR="10800" stAng="-5650283" swAng="5650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14" y="29"/>
                    </a:moveTo>
                    <a:arcTo wR="10800" hR="10800" stAng="-5650283" swAng="5650283"/>
                  </a:path>
                </a:pathLst>
              </a:custGeom>
              <a:noFill/>
              <a:ln w="158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 rot="15169800">
                <a:off x="2554200" y="3755160"/>
                <a:ext cx="830880" cy="830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14" y="29"/>
                    </a:moveTo>
                    <a:arcTo wR="10800" hR="10800" stAng="-5650283" swAng="5650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14" y="29"/>
                    </a:moveTo>
                    <a:arcTo wR="10800" hR="10800" stAng="-5650283" swAng="5650283"/>
                  </a:path>
                </a:pathLst>
              </a:custGeom>
              <a:noFill/>
              <a:ln w="158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 rot="15169800">
                <a:off x="2591640" y="3946320"/>
                <a:ext cx="653040" cy="648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14" y="29"/>
                    </a:moveTo>
                    <a:arcTo wR="10800" hR="10800" stAng="-5650283" swAng="5650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14" y="29"/>
                    </a:moveTo>
                    <a:arcTo wR="10800" hR="10800" stAng="-5650283" swAng="5650283"/>
                  </a:path>
                </a:pathLst>
              </a:custGeom>
              <a:noFill/>
              <a:ln w="158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 rot="15169800">
                <a:off x="2619360" y="4128840"/>
                <a:ext cx="487440" cy="48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14" y="29"/>
                    </a:moveTo>
                    <a:arcTo wR="10800" hR="10800" stAng="-5650283" swAng="5650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14" y="29"/>
                    </a:moveTo>
                    <a:arcTo wR="10800" hR="10800" stAng="-5650283" swAng="5650283"/>
                  </a:path>
                </a:pathLst>
              </a:custGeom>
              <a:noFill/>
              <a:ln w="158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 rot="15169800">
                <a:off x="2590920" y="4302360"/>
                <a:ext cx="403560" cy="3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14" y="29"/>
                    </a:moveTo>
                    <a:arcTo wR="10800" hR="10800" stAng="-5650283" swAng="5650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14" y="29"/>
                    </a:moveTo>
                    <a:arcTo wR="10800" hR="10800" stAng="-5650283" swAng="5650283"/>
                  </a:path>
                </a:pathLst>
              </a:custGeom>
              <a:noFill/>
              <a:ln w="158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2398680" y="1821960"/>
              <a:ext cx="1204560" cy="1298880"/>
              <a:chOff x="2398680" y="1821960"/>
              <a:chExt cx="1204560" cy="1298880"/>
            </a:xfrm>
          </p:grpSpPr>
          <p:sp>
            <p:nvSpPr>
              <p:cNvPr id="232" name=""/>
              <p:cNvSpPr/>
              <p:nvPr/>
            </p:nvSpPr>
            <p:spPr>
              <a:xfrm rot="6430200">
                <a:off x="2518560" y="2036160"/>
                <a:ext cx="964080" cy="963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14" y="29"/>
                    </a:moveTo>
                    <a:arcTo wR="10800" hR="10800" stAng="-5650283" swAng="5650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14" y="29"/>
                    </a:moveTo>
                    <a:arcTo wR="10800" hR="10800" stAng="-5650283" swAng="5650283"/>
                  </a:path>
                </a:pathLst>
              </a:cu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6430200">
                <a:off x="2523960" y="1989000"/>
                <a:ext cx="831600" cy="830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14" y="29"/>
                    </a:moveTo>
                    <a:arcTo wR="10800" hR="10800" stAng="-5650283" swAng="5650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14" y="29"/>
                    </a:moveTo>
                    <a:arcTo wR="10800" hR="10800" stAng="-5650283" swAng="5650283"/>
                  </a:path>
                </a:pathLst>
              </a:cu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6430200">
                <a:off x="2561040" y="1980000"/>
                <a:ext cx="653040" cy="64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14" y="29"/>
                    </a:moveTo>
                    <a:arcTo wR="10800" hR="10800" stAng="-5650283" swAng="5650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14" y="29"/>
                    </a:moveTo>
                    <a:arcTo wR="10800" hR="10800" stAng="-5650283" swAng="5650283"/>
                  </a:path>
                </a:pathLst>
              </a:cu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6430200">
                <a:off x="2589840" y="1962720"/>
                <a:ext cx="488160" cy="48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14" y="29"/>
                    </a:moveTo>
                    <a:arcTo wR="10800" hR="10800" stAng="-5650283" swAng="5650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14" y="29"/>
                    </a:moveTo>
                    <a:arcTo wR="10800" hR="10800" stAng="-5650283" swAng="5650283"/>
                  </a:path>
                </a:pathLst>
              </a:cu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6430200">
                <a:off x="2561040" y="1874160"/>
                <a:ext cx="403560" cy="3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14" y="29"/>
                    </a:moveTo>
                    <a:arcTo wR="10800" hR="10800" stAng="-5650283" swAng="5650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14" y="29"/>
                    </a:moveTo>
                    <a:arcTo wR="10800" hR="10800" stAng="-5650283" swAng="5650283"/>
                  </a:path>
                </a:pathLst>
              </a:cu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5691960" y="3497400"/>
              <a:ext cx="1085760" cy="1164240"/>
              <a:chOff x="5691960" y="3497400"/>
              <a:chExt cx="1085760" cy="1164240"/>
            </a:xfrm>
          </p:grpSpPr>
          <p:sp>
            <p:nvSpPr>
              <p:cNvPr id="238" name=""/>
              <p:cNvSpPr/>
              <p:nvPr/>
            </p:nvSpPr>
            <p:spPr>
              <a:xfrm rot="5844000">
                <a:off x="5755320" y="3638880"/>
                <a:ext cx="964080" cy="96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14" y="29"/>
                    </a:moveTo>
                    <a:arcTo wR="10800" hR="10800" stAng="-5650283" swAng="5650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14" y="29"/>
                    </a:moveTo>
                    <a:arcTo wR="10800" hR="10800" stAng="-5650283" swAng="5650283"/>
                  </a:path>
                </a:pathLst>
              </a:custGeom>
              <a:noFill/>
              <a:ln w="15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5844000">
                <a:off x="5742000" y="3603600"/>
                <a:ext cx="831600" cy="83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14" y="29"/>
                    </a:moveTo>
                    <a:arcTo wR="10800" hR="10800" stAng="-5650283" swAng="5650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14" y="29"/>
                    </a:moveTo>
                    <a:arcTo wR="10800" hR="10800" stAng="-5650283" swAng="5650283"/>
                  </a:path>
                </a:pathLst>
              </a:custGeom>
              <a:noFill/>
              <a:ln w="15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5844000">
                <a:off x="5762520" y="3604680"/>
                <a:ext cx="653040" cy="64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14" y="29"/>
                    </a:moveTo>
                    <a:arcTo wR="10800" hR="10800" stAng="-5650283" swAng="5650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14" y="29"/>
                    </a:moveTo>
                    <a:arcTo wR="10800" hR="10800" stAng="-5650283" swAng="5650283"/>
                  </a:path>
                </a:pathLst>
              </a:custGeom>
              <a:noFill/>
              <a:ln w="15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5844000">
                <a:off x="5774760" y="3598560"/>
                <a:ext cx="488160" cy="48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14" y="29"/>
                    </a:moveTo>
                    <a:arcTo wR="10800" hR="10800" stAng="-5650283" swAng="5650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14" y="29"/>
                    </a:moveTo>
                    <a:arcTo wR="10800" hR="10800" stAng="-5650283" swAng="5650283"/>
                  </a:path>
                </a:pathLst>
              </a:custGeom>
              <a:noFill/>
              <a:ln w="15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5844000">
                <a:off x="5725080" y="3523320"/>
                <a:ext cx="403560" cy="39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14" y="29"/>
                    </a:moveTo>
                    <a:arcTo wR="10800" hR="10800" stAng="-5650283" swAng="5650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14" y="29"/>
                    </a:moveTo>
                    <a:arcTo wR="10800" hR="10800" stAng="-5650283" swAng="5650283"/>
                  </a:path>
                </a:pathLst>
              </a:custGeom>
              <a:noFill/>
              <a:ln w="15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nfiguration with Wireless Conne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13240" y="2638440"/>
            <a:ext cx="23796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ireless Interconnec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58960" y="1928880"/>
            <a:ext cx="1100160" cy="67608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40080" y="1928880"/>
            <a:ext cx="1103400" cy="67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ction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24440" y="1928880"/>
            <a:ext cx="1103400" cy="677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12040" y="1941480"/>
            <a:ext cx="1100160" cy="6764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66880" y="3178080"/>
            <a:ext cx="1101600" cy="67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ction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43320" y="3170160"/>
            <a:ext cx="1100160" cy="6764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927680" y="3170160"/>
            <a:ext cx="1100160" cy="6764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12040" y="3170160"/>
            <a:ext cx="1100160" cy="676440"/>
          </a:xfrm>
          <a:prstGeom prst="rect">
            <a:avLst/>
          </a:prstGeom>
          <a:solidFill>
            <a:srgbClr val="ff7c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66880" y="4419720"/>
            <a:ext cx="1101600" cy="677880"/>
          </a:xfrm>
          <a:prstGeom prst="rect">
            <a:avLst/>
          </a:prstGeom>
          <a:solidFill>
            <a:srgbClr val="99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43320" y="4411800"/>
            <a:ext cx="1100160" cy="67608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itu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27680" y="4411800"/>
            <a:ext cx="1100160" cy="6760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i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r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12040" y="4411800"/>
            <a:ext cx="1100160" cy="67608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i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r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047480" y="2362320"/>
            <a:ext cx="1195200" cy="1108800"/>
            <a:chOff x="4047480" y="2362320"/>
            <a:chExt cx="1195200" cy="1108800"/>
          </a:xfrm>
        </p:grpSpPr>
        <p:sp>
          <p:nvSpPr>
            <p:cNvPr id="258" name=""/>
            <p:cNvSpPr/>
            <p:nvPr/>
          </p:nvSpPr>
          <p:spPr>
            <a:xfrm flipV="1" rot="16765800">
              <a:off x="4206240" y="2435040"/>
              <a:ext cx="96408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4" y="29"/>
                  </a:moveTo>
                  <a:arcTo wR="10800" hR="10800" stAng="-5650283" swAng="565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4" y="29"/>
                  </a:moveTo>
                  <a:arcTo wR="10800" hR="10800" stAng="-5650283" swAng="5650283"/>
                </a:path>
              </a:pathLst>
            </a:custGeom>
            <a:noFill/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16765800">
              <a:off x="4167360" y="2576160"/>
              <a:ext cx="831600" cy="83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4" y="29"/>
                  </a:moveTo>
                  <a:arcTo wR="10800" hR="10800" stAng="-5650283" swAng="565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4" y="29"/>
                  </a:moveTo>
                  <a:arcTo wR="10800" hR="10800" stAng="-5650283" swAng="5650283"/>
                </a:path>
              </a:pathLst>
            </a:custGeom>
            <a:noFill/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16765800">
              <a:off x="4165200" y="2732400"/>
              <a:ext cx="652680" cy="64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4" y="29"/>
                  </a:moveTo>
                  <a:arcTo wR="10800" hR="10800" stAng="-5650283" swAng="565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4" y="29"/>
                  </a:moveTo>
                  <a:arcTo wR="10800" hR="10800" stAng="-5650283" swAng="5650283"/>
                </a:path>
              </a:pathLst>
            </a:custGeom>
            <a:noFill/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16765800">
              <a:off x="4154400" y="2881080"/>
              <a:ext cx="48816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4" y="29"/>
                  </a:moveTo>
                  <a:arcTo wR="10800" hR="10800" stAng="-5650283" swAng="565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4" y="29"/>
                  </a:moveTo>
                  <a:arcTo wR="10800" hR="10800" stAng="-5650283" swAng="5650283"/>
                </a:path>
              </a:pathLst>
            </a:custGeom>
            <a:noFill/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16765800">
              <a:off x="4075200" y="3007800"/>
              <a:ext cx="403560" cy="39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4" y="29"/>
                  </a:moveTo>
                  <a:arcTo wR="10800" hR="10800" stAng="-5650283" swAng="565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4" y="29"/>
                  </a:moveTo>
                  <a:arcTo wR="10800" hR="10800" stAng="-5650283" swAng="5650283"/>
                </a:path>
              </a:pathLst>
            </a:custGeom>
            <a:noFill/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477040" y="1638360"/>
            <a:ext cx="1467720" cy="1361520"/>
            <a:chOff x="5477040" y="1638360"/>
            <a:chExt cx="1467720" cy="1361520"/>
          </a:xfrm>
        </p:grpSpPr>
        <p:sp>
          <p:nvSpPr>
            <p:cNvPr id="264" name=""/>
            <p:cNvSpPr/>
            <p:nvPr/>
          </p:nvSpPr>
          <p:spPr>
            <a:xfrm flipH="1" flipV="1" rot="13614600">
              <a:off x="5781600" y="1837440"/>
              <a:ext cx="964080" cy="96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4" y="29"/>
                  </a:moveTo>
                  <a:arcTo wR="10800" hR="10800" stAng="-5650283" swAng="565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4" y="29"/>
                  </a:moveTo>
                  <a:arcTo wR="10800" hR="10800" stAng="-5650283" swAng="5650283"/>
                </a:path>
              </a:pathLst>
            </a:custGeom>
            <a:noFill/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 rot="13614600">
              <a:off x="5718960" y="1900080"/>
              <a:ext cx="831600" cy="83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4" y="29"/>
                  </a:moveTo>
                  <a:arcTo wR="10800" hR="10800" stAng="-5650283" swAng="565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4" y="29"/>
                  </a:moveTo>
                  <a:arcTo wR="10800" hR="10800" stAng="-5650283" swAng="5650283"/>
                </a:path>
              </a:pathLst>
            </a:custGeom>
            <a:noFill/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 rot="13614600">
              <a:off x="5696280" y="1987200"/>
              <a:ext cx="653040" cy="64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4" y="29"/>
                  </a:moveTo>
                  <a:arcTo wR="10800" hR="10800" stAng="-5650283" swAng="565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4" y="29"/>
                  </a:moveTo>
                  <a:arcTo wR="10800" hR="10800" stAng="-5650283" swAng="5650283"/>
                </a:path>
              </a:pathLst>
            </a:custGeom>
            <a:noFill/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flipV="1" rot="13614600">
              <a:off x="5664240" y="2066760"/>
              <a:ext cx="48816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4" y="29"/>
                  </a:moveTo>
                  <a:arcTo wR="10800" hR="10800" stAng="-5650283" swAng="565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4" y="29"/>
                  </a:moveTo>
                  <a:arcTo wR="10800" hR="10800" stAng="-5650283" swAng="5650283"/>
                </a:path>
              </a:pathLst>
            </a:custGeom>
            <a:noFill/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 rot="13614600">
              <a:off x="5558040" y="2105640"/>
              <a:ext cx="403560" cy="39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4" y="29"/>
                  </a:moveTo>
                  <a:arcTo wR="10800" hR="10800" stAng="-5650283" swAng="565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4" y="29"/>
                  </a:moveTo>
                  <a:arcTo wR="10800" hR="10800" stAng="-5650283" swAng="5650283"/>
                </a:path>
              </a:pathLst>
            </a:custGeom>
            <a:noFill/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428920" y="3455280"/>
            <a:ext cx="1204560" cy="1298160"/>
            <a:chOff x="2428920" y="3455280"/>
            <a:chExt cx="1204560" cy="1298160"/>
          </a:xfrm>
        </p:grpSpPr>
        <p:sp>
          <p:nvSpPr>
            <p:cNvPr id="270" name=""/>
            <p:cNvSpPr/>
            <p:nvPr/>
          </p:nvSpPr>
          <p:spPr>
            <a:xfrm flipV="1" rot="15169800">
              <a:off x="2549520" y="3575880"/>
              <a:ext cx="96336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4" y="29"/>
                  </a:moveTo>
                  <a:arcTo wR="10800" hR="10800" stAng="-5650283" swAng="565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4" y="29"/>
                  </a:moveTo>
                  <a:arcTo wR="10800" hR="10800" stAng="-5650283" swAng="5650283"/>
                </a:path>
              </a:pathLst>
            </a:custGeom>
            <a:noFill/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5169800">
              <a:off x="2554200" y="3755160"/>
              <a:ext cx="830880" cy="83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4" y="29"/>
                  </a:moveTo>
                  <a:arcTo wR="10800" hR="10800" stAng="-5650283" swAng="565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4" y="29"/>
                  </a:moveTo>
                  <a:arcTo wR="10800" hR="10800" stAng="-5650283" swAng="5650283"/>
                </a:path>
              </a:pathLst>
            </a:custGeom>
            <a:noFill/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5169800">
              <a:off x="2591640" y="3946320"/>
              <a:ext cx="653040" cy="64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4" y="29"/>
                  </a:moveTo>
                  <a:arcTo wR="10800" hR="10800" stAng="-5650283" swAng="565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4" y="29"/>
                  </a:moveTo>
                  <a:arcTo wR="10800" hR="10800" stAng="-5650283" swAng="5650283"/>
                </a:path>
              </a:pathLst>
            </a:custGeom>
            <a:noFill/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 rot="15169800">
              <a:off x="2619360" y="4128840"/>
              <a:ext cx="48744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4" y="29"/>
                  </a:moveTo>
                  <a:arcTo wR="10800" hR="10800" stAng="-5650283" swAng="565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4" y="29"/>
                  </a:moveTo>
                  <a:arcTo wR="10800" hR="10800" stAng="-5650283" swAng="5650283"/>
                </a:path>
              </a:pathLst>
            </a:custGeom>
            <a:noFill/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 rot="15169800">
              <a:off x="2590920" y="4302360"/>
              <a:ext cx="403560" cy="39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4" y="29"/>
                  </a:moveTo>
                  <a:arcTo wR="10800" hR="10800" stAng="-5650283" swAng="565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4" y="29"/>
                  </a:moveTo>
                  <a:arcTo wR="10800" hR="10800" stAng="-5650283" swAng="5650283"/>
                </a:path>
              </a:pathLst>
            </a:custGeom>
            <a:noFill/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398680" y="1821960"/>
            <a:ext cx="1204560" cy="1298880"/>
            <a:chOff x="2398680" y="1821960"/>
            <a:chExt cx="1204560" cy="1298880"/>
          </a:xfrm>
        </p:grpSpPr>
        <p:sp>
          <p:nvSpPr>
            <p:cNvPr id="276" name=""/>
            <p:cNvSpPr/>
            <p:nvPr/>
          </p:nvSpPr>
          <p:spPr>
            <a:xfrm rot="6430200">
              <a:off x="2518560" y="2036160"/>
              <a:ext cx="96408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4" y="29"/>
                  </a:moveTo>
                  <a:arcTo wR="10800" hR="10800" stAng="-5650283" swAng="565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4" y="29"/>
                  </a:moveTo>
                  <a:arcTo wR="10800" hR="10800" stAng="-5650283" swAng="5650283"/>
                </a:path>
              </a:pathLst>
            </a:custGeom>
            <a:noFill/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6430200">
              <a:off x="2523960" y="1989000"/>
              <a:ext cx="831600" cy="83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4" y="29"/>
                  </a:moveTo>
                  <a:arcTo wR="10800" hR="10800" stAng="-5650283" swAng="565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4" y="29"/>
                  </a:moveTo>
                  <a:arcTo wR="10800" hR="10800" stAng="-5650283" swAng="5650283"/>
                </a:path>
              </a:pathLst>
            </a:custGeom>
            <a:noFill/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6430200">
              <a:off x="2561040" y="1980000"/>
              <a:ext cx="653040" cy="64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4" y="29"/>
                  </a:moveTo>
                  <a:arcTo wR="10800" hR="10800" stAng="-5650283" swAng="565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4" y="29"/>
                  </a:moveTo>
                  <a:arcTo wR="10800" hR="10800" stAng="-5650283" swAng="5650283"/>
                </a:path>
              </a:pathLst>
            </a:custGeom>
            <a:noFill/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6430200">
              <a:off x="2589840" y="1962720"/>
              <a:ext cx="48816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4" y="29"/>
                  </a:moveTo>
                  <a:arcTo wR="10800" hR="10800" stAng="-5650283" swAng="565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4" y="29"/>
                  </a:moveTo>
                  <a:arcTo wR="10800" hR="10800" stAng="-5650283" swAng="5650283"/>
                </a:path>
              </a:pathLst>
            </a:custGeom>
            <a:noFill/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6430200">
              <a:off x="2561040" y="1874160"/>
              <a:ext cx="403560" cy="39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4" y="29"/>
                  </a:moveTo>
                  <a:arcTo wR="10800" hR="10800" stAng="-5650283" swAng="565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4" y="29"/>
                  </a:moveTo>
                  <a:arcTo wR="10800" hR="10800" stAng="-5650283" swAng="5650283"/>
                </a:path>
              </a:pathLst>
            </a:custGeom>
            <a:noFill/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4932360" y="3182760"/>
            <a:ext cx="1082520" cy="625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930920" y="3209760"/>
            <a:ext cx="1082520" cy="625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276160" y="2361600"/>
            <a:ext cx="1919160" cy="2179800"/>
            <a:chOff x="5276160" y="2361600"/>
            <a:chExt cx="1919160" cy="2179800"/>
          </a:xfrm>
        </p:grpSpPr>
        <p:sp>
          <p:nvSpPr>
            <p:cNvPr id="284" name=""/>
            <p:cNvSpPr/>
            <p:nvPr/>
          </p:nvSpPr>
          <p:spPr>
            <a:xfrm rot="7178400">
              <a:off x="5637240" y="2640600"/>
              <a:ext cx="964080" cy="9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4" y="29"/>
                  </a:moveTo>
                  <a:arcTo wR="10800" hR="10800" stAng="-5650283" swAng="565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4" y="29"/>
                  </a:moveTo>
                  <a:arcTo wR="10800" hR="10800" stAng="-5650283" swAng="5650283"/>
                </a:path>
              </a:pathLst>
            </a:custGeom>
            <a:noFill/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7178400">
              <a:off x="5667840" y="2580840"/>
              <a:ext cx="831600" cy="83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4" y="29"/>
                  </a:moveTo>
                  <a:arcTo wR="10800" hR="10800" stAng="-5650283" swAng="565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4" y="29"/>
                  </a:moveTo>
                  <a:arcTo wR="10800" hR="10800" stAng="-5650283" swAng="5650283"/>
                </a:path>
              </a:pathLst>
            </a:custGeom>
            <a:noFill/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7178400">
              <a:off x="5727240" y="2562840"/>
              <a:ext cx="653400" cy="65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91" y="92"/>
                  </a:moveTo>
                  <a:arcTo wR="10800" hR="10800" stAng="-5849690" swAng="5948995"/>
                  <a:lnTo>
                    <a:pt x="10800" y="10800"/>
                  </a:lnTo>
                  <a:close/>
                </a:path>
                <a:path fill="none" w="21600" h="21600">
                  <a:moveTo>
                    <a:pt x="9391" y="92"/>
                  </a:moveTo>
                  <a:arcTo wR="10800" hR="10800" stAng="-5849690" swAng="5948995"/>
                </a:path>
              </a:pathLst>
            </a:custGeom>
            <a:noFill/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7178400">
              <a:off x="5779800" y="2537640"/>
              <a:ext cx="490320" cy="48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50" y="196"/>
                  </a:moveTo>
                  <a:arcTo wR="10800" hR="10800" stAng="-6056566" swAng="6457213"/>
                  <a:lnTo>
                    <a:pt x="10800" y="10800"/>
                  </a:lnTo>
                  <a:close/>
                </a:path>
                <a:path fill="none" w="21600" h="21600">
                  <a:moveTo>
                    <a:pt x="8750" y="196"/>
                  </a:moveTo>
                  <a:arcTo wR="10800" hR="10800" stAng="-6056566" swAng="6457213"/>
                </a:path>
              </a:pathLst>
            </a:custGeom>
            <a:noFill/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7178400">
              <a:off x="5780160" y="2436120"/>
              <a:ext cx="405000" cy="39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4" y="29"/>
                  </a:moveTo>
                  <a:arcTo wR="10800" hR="10800" stAng="-5650283" swAng="565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4" y="29"/>
                  </a:moveTo>
                  <a:arcTo wR="10800" hR="10800" stAng="-5650283" swAng="5650283"/>
                </a:path>
              </a:pathLst>
            </a:custGeom>
            <a:noFill/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7141200">
              <a:off x="5601960" y="2709360"/>
              <a:ext cx="1104840" cy="111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46" y="42"/>
                  </a:moveTo>
                  <a:arcTo wR="10800" hR="10800" stAng="-5703984" swAng="5703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9846" y="42"/>
                  </a:moveTo>
                  <a:arcTo wR="10800" hR="10800" stAng="-5703984" swAng="5703984"/>
                </a:path>
              </a:pathLst>
            </a:custGeom>
            <a:noFill/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7141200">
              <a:off x="5544720" y="2755080"/>
              <a:ext cx="1294920" cy="130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46" y="42"/>
                  </a:moveTo>
                  <a:arcTo wR="10800" hR="10800" stAng="-5703984" swAng="5703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9846" y="42"/>
                  </a:moveTo>
                  <a:arcTo wR="10800" hR="10800" stAng="-5703984" swAng="5703984"/>
                </a:path>
              </a:pathLst>
            </a:custGeom>
            <a:noFill/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7053600">
              <a:off x="5526720" y="2870640"/>
              <a:ext cx="1417320" cy="142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46" y="42"/>
                  </a:moveTo>
                  <a:arcTo wR="10800" hR="10800" stAng="-5703984" swAng="5933303"/>
                  <a:lnTo>
                    <a:pt x="10800" y="10800"/>
                  </a:lnTo>
                  <a:close/>
                </a:path>
                <a:path fill="none" w="21600" h="21600">
                  <a:moveTo>
                    <a:pt x="9846" y="42"/>
                  </a:moveTo>
                  <a:arcTo wR="10800" hR="10800" stAng="-5703984" swAng="5933303"/>
                </a:path>
              </a:pathLst>
            </a:custGeom>
            <a:noFill/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ed Autonomous Tes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6040" y="882720"/>
            <a:ext cx="82519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stributed fault detection technique, in which each component in the system tests its neighbors and deduces the identity of any failed components from the test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ionale: Traditional fault detection techniques such as duplicate-and-compare are also limiting factors of the life of a system since they are vulnerable 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ilure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 of distributed autonomous tes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ed to duplicat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ult detection logic is distributed and no single point of fail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ime is linear with respect to the number of “nodes” in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nomous Testing (Fault Free Cas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933720" y="1941480"/>
            <a:ext cx="1714320" cy="889200"/>
            <a:chOff x="3933720" y="1941480"/>
            <a:chExt cx="1714320" cy="889200"/>
          </a:xfrm>
        </p:grpSpPr>
        <p:sp>
          <p:nvSpPr>
            <p:cNvPr id="296" name=""/>
            <p:cNvSpPr/>
            <p:nvPr/>
          </p:nvSpPr>
          <p:spPr>
            <a:xfrm>
              <a:off x="3933720" y="1941480"/>
              <a:ext cx="1714320" cy="8892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37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unction Block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89240" y="2552760"/>
              <a:ext cx="184320" cy="185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73560" y="2552760"/>
              <a:ext cx="183960" cy="185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57520" y="2552760"/>
              <a:ext cx="184320" cy="185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036680" y="2371680"/>
              <a:ext cx="89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st Result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28480" y="2359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12440" y="2359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403240" y="2359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684440" y="4259160"/>
            <a:ext cx="1780560" cy="889200"/>
            <a:chOff x="1684440" y="4259160"/>
            <a:chExt cx="1780560" cy="889200"/>
          </a:xfrm>
        </p:grpSpPr>
        <p:sp>
          <p:nvSpPr>
            <p:cNvPr id="305" name=""/>
            <p:cNvSpPr/>
            <p:nvPr/>
          </p:nvSpPr>
          <p:spPr>
            <a:xfrm>
              <a:off x="1684440" y="4259160"/>
              <a:ext cx="1780560" cy="8892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37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unction Block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80640" y="4870440"/>
              <a:ext cx="191160" cy="185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2160" y="4870440"/>
              <a:ext cx="190800" cy="185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163320" y="4870440"/>
              <a:ext cx="191160" cy="185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91360" y="4689360"/>
              <a:ext cx="89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st Result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21680" y="4676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12480" y="4676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10480" y="4676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427800" y="4259160"/>
            <a:ext cx="1714320" cy="889200"/>
            <a:chOff x="6427800" y="4259160"/>
            <a:chExt cx="1714320" cy="889200"/>
          </a:xfrm>
        </p:grpSpPr>
        <p:sp>
          <p:nvSpPr>
            <p:cNvPr id="314" name=""/>
            <p:cNvSpPr/>
            <p:nvPr/>
          </p:nvSpPr>
          <p:spPr>
            <a:xfrm>
              <a:off x="6427800" y="4259160"/>
              <a:ext cx="1714320" cy="8892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37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unction Block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83320" y="4870440"/>
              <a:ext cx="184320" cy="185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67640" y="4870440"/>
              <a:ext cx="183960" cy="185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851600" y="4870440"/>
              <a:ext cx="184320" cy="185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30760" y="4689360"/>
              <a:ext cx="89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st Result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522560" y="4676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06520" y="4676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897320" y="4676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 flipH="1">
            <a:off x="2517840" y="2835360"/>
            <a:ext cx="1417680" cy="14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5619600" y="2835360"/>
            <a:ext cx="1417680" cy="14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59240" y="4703760"/>
            <a:ext cx="296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080440" y="3227400"/>
            <a:ext cx="5229000" cy="1767600"/>
            <a:chOff x="2080440" y="3227400"/>
            <a:chExt cx="5229000" cy="1767600"/>
          </a:xfrm>
        </p:grpSpPr>
        <p:sp>
          <p:nvSpPr>
            <p:cNvPr id="326" name=""/>
            <p:cNvSpPr/>
            <p:nvPr/>
          </p:nvSpPr>
          <p:spPr>
            <a:xfrm>
              <a:off x="2080440" y="3227400"/>
              <a:ext cx="93492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Tests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59960" y="4751280"/>
              <a:ext cx="93492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 Tests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374520" y="3227400"/>
              <a:ext cx="93492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 Tests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793520" y="3235320"/>
            <a:ext cx="5909400" cy="1767600"/>
            <a:chOff x="1793520" y="3235320"/>
            <a:chExt cx="5909400" cy="1767600"/>
          </a:xfrm>
        </p:grpSpPr>
        <p:sp>
          <p:nvSpPr>
            <p:cNvPr id="330" name=""/>
            <p:cNvSpPr/>
            <p:nvPr/>
          </p:nvSpPr>
          <p:spPr>
            <a:xfrm>
              <a:off x="1793520" y="3235320"/>
              <a:ext cx="13784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ult = Go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24480" y="3235320"/>
              <a:ext cx="13784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ult = Go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30360" y="4759200"/>
              <a:ext cx="13784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ult = Go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024000" y="2573280"/>
            <a:ext cx="4983840" cy="2500560"/>
            <a:chOff x="3024000" y="2573280"/>
            <a:chExt cx="4983840" cy="2500560"/>
          </a:xfrm>
        </p:grpSpPr>
        <p:sp>
          <p:nvSpPr>
            <p:cNvPr id="334" name=""/>
            <p:cNvSpPr/>
            <p:nvPr/>
          </p:nvSpPr>
          <p:spPr>
            <a:xfrm>
              <a:off x="5038560" y="25732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024000" y="48909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888320" y="48909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209760" y="2573280"/>
            <a:ext cx="4453560" cy="2500560"/>
            <a:chOff x="3209760" y="2573280"/>
            <a:chExt cx="4453560" cy="2500560"/>
          </a:xfrm>
        </p:grpSpPr>
        <p:sp>
          <p:nvSpPr>
            <p:cNvPr id="338" name=""/>
            <p:cNvSpPr/>
            <p:nvPr/>
          </p:nvSpPr>
          <p:spPr>
            <a:xfrm>
              <a:off x="5222880" y="25732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09760" y="48909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543800" y="48909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2824200" y="2573280"/>
            <a:ext cx="5009040" cy="2500560"/>
            <a:chOff x="2824200" y="2573280"/>
            <a:chExt cx="5009040" cy="2500560"/>
          </a:xfrm>
        </p:grpSpPr>
        <p:sp>
          <p:nvSpPr>
            <p:cNvPr id="342" name=""/>
            <p:cNvSpPr/>
            <p:nvPr/>
          </p:nvSpPr>
          <p:spPr>
            <a:xfrm>
              <a:off x="5395680" y="25732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24200" y="48909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713720" y="48909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1725480" y="3246840"/>
            <a:ext cx="6023520" cy="1780200"/>
            <a:chOff x="1725480" y="3246840"/>
            <a:chExt cx="6023520" cy="1780200"/>
          </a:xfrm>
        </p:grpSpPr>
        <p:sp>
          <p:nvSpPr>
            <p:cNvPr id="346" name=""/>
            <p:cNvSpPr/>
            <p:nvPr/>
          </p:nvSpPr>
          <p:spPr>
            <a:xfrm>
              <a:off x="1725480" y="3246840"/>
              <a:ext cx="145152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y B’s Opin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63760" y="4783320"/>
              <a:ext cx="145152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y C’s Opin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97480" y="3259440"/>
              <a:ext cx="145152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y A’s Opin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2122200" y="1657800"/>
            <a:ext cx="5682240" cy="3767760"/>
            <a:chOff x="2122200" y="1657800"/>
            <a:chExt cx="5682240" cy="3767760"/>
          </a:xfrm>
        </p:grpSpPr>
        <p:sp>
          <p:nvSpPr>
            <p:cNvPr id="350" name=""/>
            <p:cNvSpPr/>
            <p:nvPr/>
          </p:nvSpPr>
          <p:spPr>
            <a:xfrm>
              <a:off x="4455720" y="1657800"/>
              <a:ext cx="84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lf T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22200" y="5181840"/>
              <a:ext cx="84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lf T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59520" y="5169240"/>
              <a:ext cx="84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lf T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992520" y="977760"/>
            <a:ext cx="70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ult Detection Capability of a 3-Node System: t = (3 – 1) / 2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47840" y="228240"/>
            <a:ext cx="824832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nomous Testing (with Faulty Compone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3933720" y="1941480"/>
            <a:ext cx="1714320" cy="889200"/>
            <a:chOff x="3933720" y="1941480"/>
            <a:chExt cx="1714320" cy="889200"/>
          </a:xfrm>
        </p:grpSpPr>
        <p:sp>
          <p:nvSpPr>
            <p:cNvPr id="356" name=""/>
            <p:cNvSpPr/>
            <p:nvPr/>
          </p:nvSpPr>
          <p:spPr>
            <a:xfrm>
              <a:off x="3933720" y="1941480"/>
              <a:ext cx="1714320" cy="8892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37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unction Block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989240" y="2552760"/>
              <a:ext cx="184320" cy="185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73560" y="2552760"/>
              <a:ext cx="183960" cy="185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57520" y="2552760"/>
              <a:ext cx="184320" cy="185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36680" y="2371680"/>
              <a:ext cx="89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st Result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28480" y="2359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12440" y="2359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03240" y="2359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1684440" y="4259160"/>
            <a:ext cx="1780560" cy="889200"/>
            <a:chOff x="1684440" y="4259160"/>
            <a:chExt cx="1780560" cy="889200"/>
          </a:xfrm>
        </p:grpSpPr>
        <p:sp>
          <p:nvSpPr>
            <p:cNvPr id="365" name=""/>
            <p:cNvSpPr/>
            <p:nvPr/>
          </p:nvSpPr>
          <p:spPr>
            <a:xfrm>
              <a:off x="1684440" y="4259160"/>
              <a:ext cx="1780560" cy="8892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37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unction Block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780640" y="4870440"/>
              <a:ext cx="191160" cy="185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72160" y="4870440"/>
              <a:ext cx="190800" cy="185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163320" y="4870440"/>
              <a:ext cx="191160" cy="185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1360" y="4689360"/>
              <a:ext cx="89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st Result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21680" y="4676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12480" y="4676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10480" y="4676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427800" y="4259160"/>
            <a:ext cx="1714320" cy="889200"/>
            <a:chOff x="6427800" y="4259160"/>
            <a:chExt cx="1714320" cy="889200"/>
          </a:xfrm>
        </p:grpSpPr>
        <p:sp>
          <p:nvSpPr>
            <p:cNvPr id="374" name=""/>
            <p:cNvSpPr/>
            <p:nvPr/>
          </p:nvSpPr>
          <p:spPr>
            <a:xfrm>
              <a:off x="6427800" y="4259160"/>
              <a:ext cx="1714320" cy="8892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37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unction Block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83320" y="4870440"/>
              <a:ext cx="184320" cy="185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67640" y="4870440"/>
              <a:ext cx="183960" cy="185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51600" y="4870440"/>
              <a:ext cx="184320" cy="185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530760" y="4689360"/>
              <a:ext cx="89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st Result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522560" y="4676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706520" y="4676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897320" y="4676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 flipH="1">
            <a:off x="2517840" y="2835360"/>
            <a:ext cx="1417680" cy="14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5619600" y="2835360"/>
            <a:ext cx="1417680" cy="14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459240" y="4703760"/>
            <a:ext cx="296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080440" y="3227400"/>
            <a:ext cx="5229000" cy="1767600"/>
            <a:chOff x="2080440" y="3227400"/>
            <a:chExt cx="5229000" cy="1767600"/>
          </a:xfrm>
        </p:grpSpPr>
        <p:sp>
          <p:nvSpPr>
            <p:cNvPr id="386" name=""/>
            <p:cNvSpPr/>
            <p:nvPr/>
          </p:nvSpPr>
          <p:spPr>
            <a:xfrm>
              <a:off x="2080440" y="3227400"/>
              <a:ext cx="93492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Tests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9960" y="4751280"/>
              <a:ext cx="93492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 Tests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74520" y="3227400"/>
              <a:ext cx="93492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 Tests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792080" y="3233880"/>
            <a:ext cx="5910840" cy="1767600"/>
            <a:chOff x="1792080" y="3233880"/>
            <a:chExt cx="5910840" cy="1767600"/>
          </a:xfrm>
        </p:grpSpPr>
        <p:sp>
          <p:nvSpPr>
            <p:cNvPr id="390" name=""/>
            <p:cNvSpPr/>
            <p:nvPr/>
          </p:nvSpPr>
          <p:spPr>
            <a:xfrm>
              <a:off x="1792080" y="3233880"/>
              <a:ext cx="123372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ult = B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24480" y="3233880"/>
              <a:ext cx="13784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ult = Go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230360" y="4757760"/>
              <a:ext cx="183096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ult = Unrel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3024000" y="2573280"/>
            <a:ext cx="4983840" cy="2500560"/>
            <a:chOff x="3024000" y="2573280"/>
            <a:chExt cx="4983840" cy="2500560"/>
          </a:xfrm>
        </p:grpSpPr>
        <p:sp>
          <p:nvSpPr>
            <p:cNvPr id="394" name=""/>
            <p:cNvSpPr/>
            <p:nvPr/>
          </p:nvSpPr>
          <p:spPr>
            <a:xfrm>
              <a:off x="5038560" y="25732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24000" y="48909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88320" y="48909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209760" y="2573280"/>
            <a:ext cx="4453560" cy="2500560"/>
            <a:chOff x="3209760" y="2573280"/>
            <a:chExt cx="4453560" cy="2500560"/>
          </a:xfrm>
        </p:grpSpPr>
        <p:sp>
          <p:nvSpPr>
            <p:cNvPr id="398" name=""/>
            <p:cNvSpPr/>
            <p:nvPr/>
          </p:nvSpPr>
          <p:spPr>
            <a:xfrm>
              <a:off x="5227200" y="25732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209760" y="48909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43800" y="48909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824200" y="2573280"/>
            <a:ext cx="5004360" cy="2500560"/>
            <a:chOff x="2824200" y="2573280"/>
            <a:chExt cx="5004360" cy="2500560"/>
          </a:xfrm>
        </p:grpSpPr>
        <p:sp>
          <p:nvSpPr>
            <p:cNvPr id="402" name=""/>
            <p:cNvSpPr/>
            <p:nvPr/>
          </p:nvSpPr>
          <p:spPr>
            <a:xfrm>
              <a:off x="5395680" y="25732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24200" y="48909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18040" y="48909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63680" y="2839680"/>
            <a:ext cx="7299360" cy="2155680"/>
            <a:chOff x="463680" y="2839680"/>
            <a:chExt cx="7299360" cy="2155680"/>
          </a:xfrm>
        </p:grpSpPr>
        <p:sp>
          <p:nvSpPr>
            <p:cNvPr id="406" name=""/>
            <p:cNvSpPr/>
            <p:nvPr/>
          </p:nvSpPr>
          <p:spPr>
            <a:xfrm>
              <a:off x="463680" y="2839680"/>
              <a:ext cx="2597040" cy="73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on’t Trust B’s Opinion.  But Since Only 1 Node Can Fail, C Must be Go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60880" y="4750920"/>
              <a:ext cx="193500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11520" y="3220920"/>
              <a:ext cx="145152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y A’s Opin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1682640" y="4254480"/>
            <a:ext cx="1816200" cy="874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642680" y="4267080"/>
            <a:ext cx="1816200" cy="874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92520" y="977760"/>
            <a:ext cx="70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ult Detection Capability of a 3-Node System: t = (3 – 1) / 2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1041120"/>
            <a:ext cx="716256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-of-the-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09520" y="228240"/>
            <a:ext cx="87249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nomous Testing (with Faulty Compone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933720" y="1941480"/>
            <a:ext cx="1714320" cy="889200"/>
            <a:chOff x="3933720" y="1941480"/>
            <a:chExt cx="1714320" cy="889200"/>
          </a:xfrm>
        </p:grpSpPr>
        <p:sp>
          <p:nvSpPr>
            <p:cNvPr id="414" name=""/>
            <p:cNvSpPr/>
            <p:nvPr/>
          </p:nvSpPr>
          <p:spPr>
            <a:xfrm>
              <a:off x="3933720" y="1941480"/>
              <a:ext cx="1714320" cy="8892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37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unction Block </a:t>
              </a: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A+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989240" y="2552760"/>
              <a:ext cx="184320" cy="185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73560" y="2552760"/>
              <a:ext cx="183960" cy="185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57520" y="2552760"/>
              <a:ext cx="184320" cy="185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6680" y="2371680"/>
              <a:ext cx="89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st Result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28480" y="2359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12440" y="2359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403240" y="2359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1684440" y="4259160"/>
            <a:ext cx="1780560" cy="889200"/>
            <a:chOff x="1684440" y="4259160"/>
            <a:chExt cx="1780560" cy="889200"/>
          </a:xfrm>
        </p:grpSpPr>
        <p:sp>
          <p:nvSpPr>
            <p:cNvPr id="423" name=""/>
            <p:cNvSpPr/>
            <p:nvPr/>
          </p:nvSpPr>
          <p:spPr>
            <a:xfrm>
              <a:off x="1684440" y="4259160"/>
              <a:ext cx="1780560" cy="8892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37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unction Block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780640" y="4870440"/>
              <a:ext cx="191160" cy="185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972160" y="4870440"/>
              <a:ext cx="190800" cy="185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163320" y="4870440"/>
              <a:ext cx="191160" cy="185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791360" y="4689360"/>
              <a:ext cx="89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st Result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21680" y="4676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12480" y="4676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10480" y="4676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6427800" y="4259160"/>
            <a:ext cx="1714320" cy="889200"/>
            <a:chOff x="6427800" y="4259160"/>
            <a:chExt cx="1714320" cy="889200"/>
          </a:xfrm>
        </p:grpSpPr>
        <p:sp>
          <p:nvSpPr>
            <p:cNvPr id="432" name=""/>
            <p:cNvSpPr/>
            <p:nvPr/>
          </p:nvSpPr>
          <p:spPr>
            <a:xfrm>
              <a:off x="6427800" y="4259160"/>
              <a:ext cx="1714320" cy="8892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37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unction Block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83320" y="4870440"/>
              <a:ext cx="184320" cy="185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67640" y="4870440"/>
              <a:ext cx="183960" cy="185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51600" y="4870440"/>
              <a:ext cx="184320" cy="185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530760" y="4689360"/>
              <a:ext cx="89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st Result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22560" y="4676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706520" y="4676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897320" y="4676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 flipH="1">
            <a:off x="2517840" y="2835360"/>
            <a:ext cx="1417680" cy="14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5619600" y="2835360"/>
            <a:ext cx="1417680" cy="14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59240" y="4703760"/>
            <a:ext cx="296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3024000" y="2573280"/>
            <a:ext cx="4983840" cy="2500560"/>
            <a:chOff x="3024000" y="2573280"/>
            <a:chExt cx="4983840" cy="2500560"/>
          </a:xfrm>
        </p:grpSpPr>
        <p:sp>
          <p:nvSpPr>
            <p:cNvPr id="444" name=""/>
            <p:cNvSpPr/>
            <p:nvPr/>
          </p:nvSpPr>
          <p:spPr>
            <a:xfrm>
              <a:off x="5038560" y="25732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024000" y="48909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888320" y="48909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3209760" y="2573280"/>
            <a:ext cx="4453560" cy="2500560"/>
            <a:chOff x="3209760" y="2573280"/>
            <a:chExt cx="4453560" cy="2500560"/>
          </a:xfrm>
        </p:grpSpPr>
        <p:sp>
          <p:nvSpPr>
            <p:cNvPr id="448" name=""/>
            <p:cNvSpPr/>
            <p:nvPr/>
          </p:nvSpPr>
          <p:spPr>
            <a:xfrm>
              <a:off x="5227200" y="25732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09760" y="48909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43800" y="48909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2824200" y="2573280"/>
            <a:ext cx="5004360" cy="2500560"/>
            <a:chOff x="2824200" y="2573280"/>
            <a:chExt cx="5004360" cy="2500560"/>
          </a:xfrm>
        </p:grpSpPr>
        <p:sp>
          <p:nvSpPr>
            <p:cNvPr id="452" name=""/>
            <p:cNvSpPr/>
            <p:nvPr/>
          </p:nvSpPr>
          <p:spPr>
            <a:xfrm>
              <a:off x="5395680" y="25732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24200" y="48909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718040" y="48909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1682640" y="4254480"/>
            <a:ext cx="1816200" cy="874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1642680" y="4267080"/>
            <a:ext cx="1816200" cy="874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992520" y="977760"/>
            <a:ext cx="70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ult Detection Capability of a 3-Node System: t = (3 – 1) / 2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6040" y="5229360"/>
            <a:ext cx="82519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 A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Block A (upstream node) takes over Block B’s ta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B’s messages are igno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nomous testing continues just in case Block B is alive a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81040" y="882720"/>
            <a:ext cx="7981920" cy="54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the following Ultra Long Life System design techniques with a distributed navig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ult recovery with generic function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 re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ult diagnosis with distributed autonomous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advances in two other technologies provide the capabilities needed by the Ultra Long Life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Field Programmable Gate Arrays (FPG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ps containing logic circuits that can be reprogrammed in-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562640" y="2968560"/>
            <a:ext cx="1369800" cy="1127160"/>
          </a:xfrm>
          <a:prstGeom prst="roundRect">
            <a:avLst>
              <a:gd name="adj" fmla="val 2968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90680" y="882360"/>
            <a:ext cx="816264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1: Build a system with three Generic Function Blo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813040" y="2968560"/>
            <a:ext cx="1370160" cy="1127160"/>
          </a:xfrm>
          <a:prstGeom prst="roundRect">
            <a:avLst>
              <a:gd name="adj" fmla="val 2968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960640" y="3184560"/>
            <a:ext cx="1066680" cy="779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Arial"/>
              </a:rPr>
              <a:t>Blank Field Programmable Gate Arr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713120" y="3184560"/>
            <a:ext cx="1067040" cy="779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Arial"/>
              </a:rPr>
              <a:t>Blank Field Programmable Gate Arr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08160" y="2390760"/>
            <a:ext cx="968400" cy="4557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Wireless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59080" y="2859120"/>
            <a:ext cx="469800" cy="195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338640" y="3054240"/>
            <a:ext cx="312480" cy="130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762440" y="2390760"/>
            <a:ext cx="968400" cy="4557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Wireless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011560" y="2859120"/>
            <a:ext cx="470160" cy="195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690640" y="2343240"/>
            <a:ext cx="317520" cy="314280"/>
            <a:chOff x="2690640" y="2343240"/>
            <a:chExt cx="317520" cy="314280"/>
          </a:xfrm>
        </p:grpSpPr>
        <p:sp>
          <p:nvSpPr>
            <p:cNvPr id="473" name=""/>
            <p:cNvSpPr/>
            <p:nvPr/>
          </p:nvSpPr>
          <p:spPr>
            <a:xfrm flipV="1">
              <a:off x="2690640" y="235116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800080" y="234324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5742000" y="2343240"/>
            <a:ext cx="317520" cy="314280"/>
            <a:chOff x="5742000" y="2343240"/>
            <a:chExt cx="317520" cy="314280"/>
          </a:xfrm>
        </p:grpSpPr>
        <p:sp>
          <p:nvSpPr>
            <p:cNvPr id="476" name=""/>
            <p:cNvSpPr/>
            <p:nvPr/>
          </p:nvSpPr>
          <p:spPr>
            <a:xfrm flipH="1" flipV="1">
              <a:off x="5848560" y="235116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742000" y="234324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5091120" y="3054240"/>
            <a:ext cx="312840" cy="130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662280" y="5253120"/>
            <a:ext cx="1370160" cy="1127160"/>
          </a:xfrm>
          <a:prstGeom prst="roundRect">
            <a:avLst>
              <a:gd name="adj" fmla="val 2968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09880" y="5468760"/>
            <a:ext cx="1067040" cy="779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Arial"/>
              </a:rPr>
              <a:t>Blank Field Programmable Gate Arr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57760" y="4675320"/>
            <a:ext cx="968400" cy="4554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Wireless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08320" y="5143680"/>
            <a:ext cx="470160" cy="195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87880" y="5338800"/>
            <a:ext cx="312840" cy="129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540240" y="4627440"/>
            <a:ext cx="317520" cy="314280"/>
            <a:chOff x="3540240" y="4627440"/>
            <a:chExt cx="317520" cy="314280"/>
          </a:xfrm>
        </p:grpSpPr>
        <p:sp>
          <p:nvSpPr>
            <p:cNvPr id="485" name=""/>
            <p:cNvSpPr/>
            <p:nvPr/>
          </p:nvSpPr>
          <p:spPr>
            <a:xfrm flipV="1">
              <a:off x="3540240" y="463536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49680" y="462744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1824120" y="3213000"/>
            <a:ext cx="93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ic Function 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946840" y="3213000"/>
            <a:ext cx="93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ic Function 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019840" y="5508720"/>
            <a:ext cx="93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ic Function 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562640" y="2968560"/>
            <a:ext cx="1369800" cy="1127160"/>
          </a:xfrm>
          <a:prstGeom prst="roundRect">
            <a:avLst>
              <a:gd name="adj" fmla="val 2968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90680" y="882360"/>
            <a:ext cx="816264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: Configure each Generic Function Block to perform a sensor interfac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13040" y="2968560"/>
            <a:ext cx="1370160" cy="1127160"/>
          </a:xfrm>
          <a:prstGeom prst="roundRect">
            <a:avLst>
              <a:gd name="adj" fmla="val 2968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60640" y="3184560"/>
            <a:ext cx="1066680" cy="779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yro 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713120" y="3184560"/>
            <a:ext cx="1067040" cy="779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l 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008160" y="2390760"/>
            <a:ext cx="968400" cy="4557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Wireless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59080" y="2859120"/>
            <a:ext cx="469800" cy="195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338640" y="3054240"/>
            <a:ext cx="312480" cy="130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762440" y="2390760"/>
            <a:ext cx="968400" cy="4557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Wireless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011560" y="2859120"/>
            <a:ext cx="470160" cy="195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690640" y="2343240"/>
            <a:ext cx="317520" cy="314280"/>
            <a:chOff x="2690640" y="2343240"/>
            <a:chExt cx="317520" cy="314280"/>
          </a:xfrm>
        </p:grpSpPr>
        <p:sp>
          <p:nvSpPr>
            <p:cNvPr id="502" name=""/>
            <p:cNvSpPr/>
            <p:nvPr/>
          </p:nvSpPr>
          <p:spPr>
            <a:xfrm flipV="1">
              <a:off x="2690640" y="235116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00080" y="234324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742000" y="2343240"/>
            <a:ext cx="317520" cy="314280"/>
            <a:chOff x="5742000" y="2343240"/>
            <a:chExt cx="317520" cy="314280"/>
          </a:xfrm>
        </p:grpSpPr>
        <p:sp>
          <p:nvSpPr>
            <p:cNvPr id="505" name=""/>
            <p:cNvSpPr/>
            <p:nvPr/>
          </p:nvSpPr>
          <p:spPr>
            <a:xfrm flipH="1" flipV="1">
              <a:off x="5848560" y="235116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5742000" y="234324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977760" y="2430360"/>
            <a:ext cx="712800" cy="4161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y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1698480" y="2343240"/>
            <a:ext cx="317520" cy="314280"/>
            <a:chOff x="1698480" y="2343240"/>
            <a:chExt cx="317520" cy="314280"/>
          </a:xfrm>
        </p:grpSpPr>
        <p:sp>
          <p:nvSpPr>
            <p:cNvPr id="509" name=""/>
            <p:cNvSpPr/>
            <p:nvPr/>
          </p:nvSpPr>
          <p:spPr>
            <a:xfrm flipH="1" flipV="1">
              <a:off x="1805040" y="235116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1698480" y="234324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6730920" y="2343240"/>
            <a:ext cx="317520" cy="314280"/>
            <a:chOff x="6730920" y="2343240"/>
            <a:chExt cx="317520" cy="314280"/>
          </a:xfrm>
        </p:grpSpPr>
        <p:sp>
          <p:nvSpPr>
            <p:cNvPr id="512" name=""/>
            <p:cNvSpPr/>
            <p:nvPr/>
          </p:nvSpPr>
          <p:spPr>
            <a:xfrm flipV="1">
              <a:off x="6730920" y="235116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40360" y="234324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031160" y="2430360"/>
            <a:ext cx="712800" cy="4161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c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20800" y="5799240"/>
            <a:ext cx="869760" cy="4921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r Trac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1698480" y="5749920"/>
            <a:ext cx="317520" cy="314280"/>
            <a:chOff x="1698480" y="5749920"/>
            <a:chExt cx="317520" cy="314280"/>
          </a:xfrm>
        </p:grpSpPr>
        <p:sp>
          <p:nvSpPr>
            <p:cNvPr id="517" name=""/>
            <p:cNvSpPr/>
            <p:nvPr/>
          </p:nvSpPr>
          <p:spPr>
            <a:xfrm flipH="1" flipV="1">
              <a:off x="1805040" y="575784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1698480" y="574992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996920" y="2427120"/>
            <a:ext cx="717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2062080" y="4749480"/>
            <a:ext cx="1447920" cy="979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41880" y="2427120"/>
            <a:ext cx="717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356600" y="5799240"/>
            <a:ext cx="1079280" cy="4921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light Comp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7061040" y="5749920"/>
            <a:ext cx="317520" cy="314280"/>
            <a:chOff x="7061040" y="5749920"/>
            <a:chExt cx="317520" cy="314280"/>
          </a:xfrm>
        </p:grpSpPr>
        <p:sp>
          <p:nvSpPr>
            <p:cNvPr id="524" name=""/>
            <p:cNvSpPr/>
            <p:nvPr/>
          </p:nvSpPr>
          <p:spPr>
            <a:xfrm flipV="1">
              <a:off x="7061040" y="575784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70480" y="574992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6016680" y="2505240"/>
            <a:ext cx="1108080" cy="3000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833560" y="2478240"/>
            <a:ext cx="4187880" cy="3065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091120" y="3054240"/>
            <a:ext cx="312840" cy="130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62280" y="5253120"/>
            <a:ext cx="1370160" cy="1127160"/>
          </a:xfrm>
          <a:prstGeom prst="roundRect">
            <a:avLst>
              <a:gd name="adj" fmla="val 2968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09880" y="5468760"/>
            <a:ext cx="1067040" cy="779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r Tracker 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57760" y="4675320"/>
            <a:ext cx="968400" cy="4554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Wireless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08320" y="5143680"/>
            <a:ext cx="470160" cy="195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87880" y="5338800"/>
            <a:ext cx="312840" cy="129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3540240" y="4627440"/>
            <a:ext cx="317520" cy="314280"/>
            <a:chOff x="3540240" y="4627440"/>
            <a:chExt cx="317520" cy="314280"/>
          </a:xfrm>
        </p:grpSpPr>
        <p:sp>
          <p:nvSpPr>
            <p:cNvPr id="535" name=""/>
            <p:cNvSpPr/>
            <p:nvPr/>
          </p:nvSpPr>
          <p:spPr>
            <a:xfrm flipV="1">
              <a:off x="3540240" y="463536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649680" y="462744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757680" y="4748040"/>
            <a:ext cx="318456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077920" y="2475000"/>
            <a:ext cx="50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ro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841400" y="5005440"/>
            <a:ext cx="1057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tracker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216480" y="2460600"/>
            <a:ext cx="49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90680" y="882360"/>
            <a:ext cx="816264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: Implement the Autonomous Testing and system recovery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562640" y="2968560"/>
            <a:ext cx="1369800" cy="1127160"/>
          </a:xfrm>
          <a:prstGeom prst="roundRect">
            <a:avLst>
              <a:gd name="adj" fmla="val 2968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3040" y="2968560"/>
            <a:ext cx="1370160" cy="1127160"/>
          </a:xfrm>
          <a:prstGeom prst="roundRect">
            <a:avLst>
              <a:gd name="adj" fmla="val 2968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960640" y="3184560"/>
            <a:ext cx="1066680" cy="779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yro 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713120" y="3184560"/>
            <a:ext cx="1067040" cy="779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l 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08160" y="2390760"/>
            <a:ext cx="968400" cy="4557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Wireless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259080" y="2859120"/>
            <a:ext cx="469800" cy="195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38640" y="3054240"/>
            <a:ext cx="312480" cy="130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762440" y="2390760"/>
            <a:ext cx="968400" cy="4557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Wireless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11560" y="2859120"/>
            <a:ext cx="470160" cy="195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690640" y="2343240"/>
            <a:ext cx="317520" cy="314280"/>
            <a:chOff x="2690640" y="2343240"/>
            <a:chExt cx="317520" cy="314280"/>
          </a:xfrm>
        </p:grpSpPr>
        <p:sp>
          <p:nvSpPr>
            <p:cNvPr id="553" name=""/>
            <p:cNvSpPr/>
            <p:nvPr/>
          </p:nvSpPr>
          <p:spPr>
            <a:xfrm flipV="1">
              <a:off x="2690640" y="235116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800080" y="234324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5742000" y="2343240"/>
            <a:ext cx="317520" cy="314280"/>
            <a:chOff x="5742000" y="2343240"/>
            <a:chExt cx="317520" cy="314280"/>
          </a:xfrm>
        </p:grpSpPr>
        <p:sp>
          <p:nvSpPr>
            <p:cNvPr id="556" name=""/>
            <p:cNvSpPr/>
            <p:nvPr/>
          </p:nvSpPr>
          <p:spPr>
            <a:xfrm flipH="1" flipV="1">
              <a:off x="5848560" y="235116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5742000" y="234324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977760" y="2430360"/>
            <a:ext cx="712800" cy="4161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y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1698480" y="2343240"/>
            <a:ext cx="317520" cy="314280"/>
            <a:chOff x="1698480" y="2343240"/>
            <a:chExt cx="317520" cy="314280"/>
          </a:xfrm>
        </p:grpSpPr>
        <p:sp>
          <p:nvSpPr>
            <p:cNvPr id="560" name=""/>
            <p:cNvSpPr/>
            <p:nvPr/>
          </p:nvSpPr>
          <p:spPr>
            <a:xfrm flipH="1" flipV="1">
              <a:off x="1805040" y="235116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1698480" y="234324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730920" y="2343240"/>
            <a:ext cx="317520" cy="314280"/>
            <a:chOff x="6730920" y="2343240"/>
            <a:chExt cx="317520" cy="314280"/>
          </a:xfrm>
        </p:grpSpPr>
        <p:sp>
          <p:nvSpPr>
            <p:cNvPr id="563" name=""/>
            <p:cNvSpPr/>
            <p:nvPr/>
          </p:nvSpPr>
          <p:spPr>
            <a:xfrm flipV="1">
              <a:off x="6730920" y="235116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840360" y="234324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7031160" y="2430360"/>
            <a:ext cx="712800" cy="4161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c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20800" y="5799240"/>
            <a:ext cx="869760" cy="4921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r Trac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1698480" y="5749920"/>
            <a:ext cx="317520" cy="314280"/>
            <a:chOff x="1698480" y="5749920"/>
            <a:chExt cx="317520" cy="314280"/>
          </a:xfrm>
        </p:grpSpPr>
        <p:sp>
          <p:nvSpPr>
            <p:cNvPr id="568" name=""/>
            <p:cNvSpPr/>
            <p:nvPr/>
          </p:nvSpPr>
          <p:spPr>
            <a:xfrm flipH="1" flipV="1">
              <a:off x="1805040" y="575784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1698480" y="574992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1996920" y="2427120"/>
            <a:ext cx="717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2062080" y="4749480"/>
            <a:ext cx="1447920" cy="979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41880" y="2427120"/>
            <a:ext cx="717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356600" y="5799240"/>
            <a:ext cx="1079280" cy="4921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light Comp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7061040" y="5749920"/>
            <a:ext cx="317520" cy="314280"/>
            <a:chOff x="7061040" y="5749920"/>
            <a:chExt cx="317520" cy="314280"/>
          </a:xfrm>
        </p:grpSpPr>
        <p:sp>
          <p:nvSpPr>
            <p:cNvPr id="575" name=""/>
            <p:cNvSpPr/>
            <p:nvPr/>
          </p:nvSpPr>
          <p:spPr>
            <a:xfrm flipV="1">
              <a:off x="7061040" y="575784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170480" y="574992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6016680" y="2505240"/>
            <a:ext cx="1108080" cy="3000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33560" y="2478240"/>
            <a:ext cx="4187880" cy="3065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091120" y="3054240"/>
            <a:ext cx="312840" cy="130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662280" y="5253120"/>
            <a:ext cx="1370160" cy="1127160"/>
          </a:xfrm>
          <a:prstGeom prst="roundRect">
            <a:avLst>
              <a:gd name="adj" fmla="val 2968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09880" y="5468760"/>
            <a:ext cx="1067040" cy="779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r Tracker 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57760" y="4675320"/>
            <a:ext cx="968400" cy="4554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Wireless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08320" y="5143680"/>
            <a:ext cx="470160" cy="195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87880" y="5338800"/>
            <a:ext cx="312840" cy="129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3540240" y="4627440"/>
            <a:ext cx="317520" cy="314280"/>
            <a:chOff x="3540240" y="4627440"/>
            <a:chExt cx="317520" cy="314280"/>
          </a:xfrm>
        </p:grpSpPr>
        <p:sp>
          <p:nvSpPr>
            <p:cNvPr id="586" name=""/>
            <p:cNvSpPr/>
            <p:nvPr/>
          </p:nvSpPr>
          <p:spPr>
            <a:xfrm flipV="1">
              <a:off x="3540240" y="463536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649680" y="462744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3757680" y="4748040"/>
            <a:ext cx="318456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674800" y="1969920"/>
            <a:ext cx="3210120" cy="2584440"/>
            <a:chOff x="2674800" y="1969920"/>
            <a:chExt cx="3210120" cy="2584440"/>
          </a:xfrm>
        </p:grpSpPr>
        <p:sp>
          <p:nvSpPr>
            <p:cNvPr id="590" name=""/>
            <p:cNvSpPr/>
            <p:nvPr/>
          </p:nvSpPr>
          <p:spPr>
            <a:xfrm>
              <a:off x="2674800" y="2557440"/>
              <a:ext cx="914400" cy="19843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924280" y="2244600"/>
              <a:ext cx="285732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3746520" y="2400480"/>
              <a:ext cx="2138400" cy="21538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702240" y="1969920"/>
              <a:ext cx="158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Arial"/>
                </a:rPr>
                <a:t>Autonomous Tes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2077920" y="2475000"/>
            <a:ext cx="50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ro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41400" y="5005440"/>
            <a:ext cx="1057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tracker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216480" y="2460600"/>
            <a:ext cx="49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562640" y="2968560"/>
            <a:ext cx="1369800" cy="1127160"/>
          </a:xfrm>
          <a:prstGeom prst="roundRect">
            <a:avLst>
              <a:gd name="adj" fmla="val 2968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0680" y="882360"/>
            <a:ext cx="816264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4: Verification – Inject a fault to one of the sensor interface function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813040" y="2968560"/>
            <a:ext cx="1370160" cy="1127160"/>
          </a:xfrm>
          <a:prstGeom prst="roundRect">
            <a:avLst>
              <a:gd name="adj" fmla="val 2968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960640" y="3184560"/>
            <a:ext cx="1066680" cy="779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yro 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713120" y="3184560"/>
            <a:ext cx="1067040" cy="779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l 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08160" y="2390760"/>
            <a:ext cx="968400" cy="4557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Wireless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259080" y="2859120"/>
            <a:ext cx="469800" cy="195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338640" y="3054240"/>
            <a:ext cx="312480" cy="130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762440" y="2390760"/>
            <a:ext cx="968400" cy="4557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Wireless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11560" y="2859120"/>
            <a:ext cx="470160" cy="195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2690640" y="2343240"/>
            <a:ext cx="317520" cy="314280"/>
            <a:chOff x="2690640" y="2343240"/>
            <a:chExt cx="317520" cy="314280"/>
          </a:xfrm>
        </p:grpSpPr>
        <p:sp>
          <p:nvSpPr>
            <p:cNvPr id="609" name=""/>
            <p:cNvSpPr/>
            <p:nvPr/>
          </p:nvSpPr>
          <p:spPr>
            <a:xfrm flipV="1">
              <a:off x="2690640" y="235116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800080" y="234324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5742000" y="2343240"/>
            <a:ext cx="317520" cy="314280"/>
            <a:chOff x="5742000" y="2343240"/>
            <a:chExt cx="317520" cy="314280"/>
          </a:xfrm>
        </p:grpSpPr>
        <p:sp>
          <p:nvSpPr>
            <p:cNvPr id="612" name=""/>
            <p:cNvSpPr/>
            <p:nvPr/>
          </p:nvSpPr>
          <p:spPr>
            <a:xfrm flipH="1" flipV="1">
              <a:off x="5848560" y="235116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5742000" y="234324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977760" y="2430360"/>
            <a:ext cx="712800" cy="4161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y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698480" y="2343240"/>
            <a:ext cx="317520" cy="314280"/>
            <a:chOff x="1698480" y="2343240"/>
            <a:chExt cx="317520" cy="314280"/>
          </a:xfrm>
        </p:grpSpPr>
        <p:sp>
          <p:nvSpPr>
            <p:cNvPr id="616" name=""/>
            <p:cNvSpPr/>
            <p:nvPr/>
          </p:nvSpPr>
          <p:spPr>
            <a:xfrm flipH="1" flipV="1">
              <a:off x="1805040" y="235116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1698480" y="234324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6730920" y="2343240"/>
            <a:ext cx="317520" cy="314280"/>
            <a:chOff x="6730920" y="2343240"/>
            <a:chExt cx="317520" cy="314280"/>
          </a:xfrm>
        </p:grpSpPr>
        <p:sp>
          <p:nvSpPr>
            <p:cNvPr id="619" name=""/>
            <p:cNvSpPr/>
            <p:nvPr/>
          </p:nvSpPr>
          <p:spPr>
            <a:xfrm flipV="1">
              <a:off x="6730920" y="235116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840360" y="234324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7031160" y="2430360"/>
            <a:ext cx="712800" cy="4161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c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20800" y="5799240"/>
            <a:ext cx="869760" cy="4921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r Trac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1698480" y="5749920"/>
            <a:ext cx="317520" cy="314280"/>
            <a:chOff x="1698480" y="5749920"/>
            <a:chExt cx="317520" cy="314280"/>
          </a:xfrm>
        </p:grpSpPr>
        <p:sp>
          <p:nvSpPr>
            <p:cNvPr id="624" name=""/>
            <p:cNvSpPr/>
            <p:nvPr/>
          </p:nvSpPr>
          <p:spPr>
            <a:xfrm flipH="1" flipV="1">
              <a:off x="1805040" y="575784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1698480" y="574992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1996920" y="2427120"/>
            <a:ext cx="717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2062080" y="4749480"/>
            <a:ext cx="1447920" cy="979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41880" y="2427120"/>
            <a:ext cx="717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356600" y="5799240"/>
            <a:ext cx="1079280" cy="4921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light Comp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7061040" y="5749920"/>
            <a:ext cx="317520" cy="314280"/>
            <a:chOff x="7061040" y="5749920"/>
            <a:chExt cx="317520" cy="314280"/>
          </a:xfrm>
        </p:grpSpPr>
        <p:sp>
          <p:nvSpPr>
            <p:cNvPr id="631" name=""/>
            <p:cNvSpPr/>
            <p:nvPr/>
          </p:nvSpPr>
          <p:spPr>
            <a:xfrm flipV="1">
              <a:off x="7061040" y="575784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170480" y="574992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6016680" y="2505240"/>
            <a:ext cx="1108080" cy="3000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33560" y="2478240"/>
            <a:ext cx="4187880" cy="3065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091120" y="3054240"/>
            <a:ext cx="312840" cy="130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662280" y="5253120"/>
            <a:ext cx="1370160" cy="1127160"/>
          </a:xfrm>
          <a:prstGeom prst="roundRect">
            <a:avLst>
              <a:gd name="adj" fmla="val 2968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5468760"/>
            <a:ext cx="1067040" cy="779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r Tracker 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857760" y="4675320"/>
            <a:ext cx="968400" cy="4554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Wireless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08320" y="5143680"/>
            <a:ext cx="470160" cy="195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87880" y="5338800"/>
            <a:ext cx="312840" cy="129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3540240" y="4627440"/>
            <a:ext cx="317520" cy="314280"/>
            <a:chOff x="3540240" y="4627440"/>
            <a:chExt cx="317520" cy="314280"/>
          </a:xfrm>
        </p:grpSpPr>
        <p:sp>
          <p:nvSpPr>
            <p:cNvPr id="642" name=""/>
            <p:cNvSpPr/>
            <p:nvPr/>
          </p:nvSpPr>
          <p:spPr>
            <a:xfrm flipV="1">
              <a:off x="3540240" y="463536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649680" y="462744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3757680" y="4748040"/>
            <a:ext cx="318456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22840" y="5479920"/>
            <a:ext cx="1042920" cy="76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808440" y="5481720"/>
            <a:ext cx="1095480" cy="766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2674800" y="1969920"/>
            <a:ext cx="3210120" cy="2584440"/>
            <a:chOff x="2674800" y="1969920"/>
            <a:chExt cx="3210120" cy="2584440"/>
          </a:xfrm>
        </p:grpSpPr>
        <p:sp>
          <p:nvSpPr>
            <p:cNvPr id="648" name=""/>
            <p:cNvSpPr/>
            <p:nvPr/>
          </p:nvSpPr>
          <p:spPr>
            <a:xfrm>
              <a:off x="2674800" y="2557440"/>
              <a:ext cx="914400" cy="19843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924280" y="2244600"/>
              <a:ext cx="285732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3746520" y="2400480"/>
              <a:ext cx="2138400" cy="21538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702240" y="1969920"/>
              <a:ext cx="158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Arial"/>
                </a:rPr>
                <a:t>Autonomous Tes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2077920" y="2475000"/>
            <a:ext cx="50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ro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841400" y="5005440"/>
            <a:ext cx="1057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tracker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216480" y="2460600"/>
            <a:ext cx="49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562640" y="2968560"/>
            <a:ext cx="1369800" cy="1127160"/>
          </a:xfrm>
          <a:prstGeom prst="roundRect">
            <a:avLst>
              <a:gd name="adj" fmla="val 2968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90680" y="882360"/>
            <a:ext cx="816264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5: Verification – verify that the function of the failed interface is relocated to another function bl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813040" y="2968560"/>
            <a:ext cx="1370160" cy="1127160"/>
          </a:xfrm>
          <a:prstGeom prst="roundRect">
            <a:avLst>
              <a:gd name="adj" fmla="val 2968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960640" y="3184560"/>
            <a:ext cx="1066680" cy="779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yro+Star Tracker  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713120" y="3184560"/>
            <a:ext cx="1067040" cy="779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l 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008160" y="2390760"/>
            <a:ext cx="968400" cy="4557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Wireless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259080" y="2859120"/>
            <a:ext cx="469800" cy="195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38640" y="3054240"/>
            <a:ext cx="312480" cy="130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62440" y="2390760"/>
            <a:ext cx="968400" cy="4557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Wireless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011560" y="2859120"/>
            <a:ext cx="470160" cy="195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690640" y="2343240"/>
            <a:ext cx="317520" cy="314280"/>
            <a:chOff x="2690640" y="2343240"/>
            <a:chExt cx="317520" cy="314280"/>
          </a:xfrm>
        </p:grpSpPr>
        <p:sp>
          <p:nvSpPr>
            <p:cNvPr id="667" name=""/>
            <p:cNvSpPr/>
            <p:nvPr/>
          </p:nvSpPr>
          <p:spPr>
            <a:xfrm flipV="1">
              <a:off x="2690640" y="235116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800080" y="234324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742000" y="2343240"/>
            <a:ext cx="317520" cy="314280"/>
            <a:chOff x="5742000" y="2343240"/>
            <a:chExt cx="317520" cy="314280"/>
          </a:xfrm>
        </p:grpSpPr>
        <p:sp>
          <p:nvSpPr>
            <p:cNvPr id="670" name=""/>
            <p:cNvSpPr/>
            <p:nvPr/>
          </p:nvSpPr>
          <p:spPr>
            <a:xfrm flipH="1" flipV="1">
              <a:off x="5848560" y="235116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5742000" y="234324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977760" y="2430360"/>
            <a:ext cx="712800" cy="4161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y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1698480" y="2343240"/>
            <a:ext cx="317520" cy="314280"/>
            <a:chOff x="1698480" y="2343240"/>
            <a:chExt cx="317520" cy="314280"/>
          </a:xfrm>
        </p:grpSpPr>
        <p:sp>
          <p:nvSpPr>
            <p:cNvPr id="674" name=""/>
            <p:cNvSpPr/>
            <p:nvPr/>
          </p:nvSpPr>
          <p:spPr>
            <a:xfrm flipH="1" flipV="1">
              <a:off x="1805040" y="235116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1698480" y="234324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6730920" y="2343240"/>
            <a:ext cx="317520" cy="314280"/>
            <a:chOff x="6730920" y="2343240"/>
            <a:chExt cx="317520" cy="314280"/>
          </a:xfrm>
        </p:grpSpPr>
        <p:sp>
          <p:nvSpPr>
            <p:cNvPr id="677" name=""/>
            <p:cNvSpPr/>
            <p:nvPr/>
          </p:nvSpPr>
          <p:spPr>
            <a:xfrm flipV="1">
              <a:off x="6730920" y="235116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840360" y="234324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7031160" y="2430360"/>
            <a:ext cx="712800" cy="4161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c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20800" y="5799240"/>
            <a:ext cx="869760" cy="4921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r Trac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1698480" y="5749920"/>
            <a:ext cx="317520" cy="314280"/>
            <a:chOff x="1698480" y="5749920"/>
            <a:chExt cx="317520" cy="314280"/>
          </a:xfrm>
        </p:grpSpPr>
        <p:sp>
          <p:nvSpPr>
            <p:cNvPr id="682" name=""/>
            <p:cNvSpPr/>
            <p:nvPr/>
          </p:nvSpPr>
          <p:spPr>
            <a:xfrm flipH="1" flipV="1">
              <a:off x="1805040" y="575784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1698480" y="574992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1996920" y="2427120"/>
            <a:ext cx="717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041880" y="2427120"/>
            <a:ext cx="717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356600" y="5799240"/>
            <a:ext cx="1079280" cy="4921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light Comp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7061040" y="5749920"/>
            <a:ext cx="317520" cy="314280"/>
            <a:chOff x="7061040" y="5749920"/>
            <a:chExt cx="317520" cy="314280"/>
          </a:xfrm>
        </p:grpSpPr>
        <p:sp>
          <p:nvSpPr>
            <p:cNvPr id="688" name=""/>
            <p:cNvSpPr/>
            <p:nvPr/>
          </p:nvSpPr>
          <p:spPr>
            <a:xfrm flipV="1">
              <a:off x="7061040" y="575784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70480" y="574992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6016680" y="2505240"/>
            <a:ext cx="1108080" cy="3000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33560" y="2478240"/>
            <a:ext cx="4187880" cy="3065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091120" y="3054240"/>
            <a:ext cx="312840" cy="130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662280" y="5253120"/>
            <a:ext cx="1370160" cy="1127160"/>
          </a:xfrm>
          <a:prstGeom prst="roundRect">
            <a:avLst>
              <a:gd name="adj" fmla="val 2968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09880" y="5468760"/>
            <a:ext cx="1067040" cy="779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r Tracker 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57760" y="4675320"/>
            <a:ext cx="968400" cy="4554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Wireless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108320" y="5143680"/>
            <a:ext cx="470160" cy="195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187880" y="5338800"/>
            <a:ext cx="312840" cy="129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3540240" y="4627440"/>
            <a:ext cx="317520" cy="314280"/>
            <a:chOff x="3540240" y="4627440"/>
            <a:chExt cx="317520" cy="314280"/>
          </a:xfrm>
        </p:grpSpPr>
        <p:sp>
          <p:nvSpPr>
            <p:cNvPr id="699" name=""/>
            <p:cNvSpPr/>
            <p:nvPr/>
          </p:nvSpPr>
          <p:spPr>
            <a:xfrm flipV="1">
              <a:off x="3540240" y="463536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649680" y="462744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3822840" y="5479920"/>
            <a:ext cx="1042920" cy="76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3808440" y="5481720"/>
            <a:ext cx="1095480" cy="766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2062080" y="2557080"/>
            <a:ext cx="571680" cy="3171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2674800" y="1969920"/>
            <a:ext cx="3210120" cy="2584440"/>
            <a:chOff x="2674800" y="1969920"/>
            <a:chExt cx="3210120" cy="2584440"/>
          </a:xfrm>
        </p:grpSpPr>
        <p:sp>
          <p:nvSpPr>
            <p:cNvPr id="705" name=""/>
            <p:cNvSpPr/>
            <p:nvPr/>
          </p:nvSpPr>
          <p:spPr>
            <a:xfrm>
              <a:off x="2674800" y="2557440"/>
              <a:ext cx="914400" cy="19843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924280" y="2244600"/>
              <a:ext cx="285732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3746520" y="2400480"/>
              <a:ext cx="2138400" cy="21538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702240" y="1969920"/>
              <a:ext cx="158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Arial"/>
                </a:rPr>
                <a:t>Autonomous Tes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2077920" y="2475000"/>
            <a:ext cx="50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ro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523880" y="4925880"/>
            <a:ext cx="6462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tracker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216480" y="2460600"/>
            <a:ext cx="49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73000" y="2940120"/>
            <a:ext cx="99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urrently Simula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01640" y="6332400"/>
            <a:ext cx="99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urrently Simula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929280" y="2900520"/>
            <a:ext cx="99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urrently Simula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cessary Simplif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16080" y="882360"/>
            <a:ext cx="851184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s with wireless interface are not readily available.  Simulate the wireless sensors with the host computer.  No direct communication among control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939960" y="1784520"/>
            <a:ext cx="1342440" cy="1018800"/>
            <a:chOff x="939960" y="1784520"/>
            <a:chExt cx="1342440" cy="1018800"/>
          </a:xfrm>
        </p:grpSpPr>
        <p:grpSp>
          <p:nvGrpSpPr>
            <p:cNvPr id="718" name=""/>
            <p:cNvGrpSpPr/>
            <p:nvPr/>
          </p:nvGrpSpPr>
          <p:grpSpPr>
            <a:xfrm>
              <a:off x="939960" y="2509560"/>
              <a:ext cx="1342440" cy="293760"/>
              <a:chOff x="939960" y="2509560"/>
              <a:chExt cx="1342440" cy="293760"/>
            </a:xfrm>
          </p:grpSpPr>
          <p:sp>
            <p:nvSpPr>
              <p:cNvPr id="719" name=""/>
              <p:cNvSpPr/>
              <p:nvPr/>
            </p:nvSpPr>
            <p:spPr>
              <a:xfrm>
                <a:off x="939960" y="2509560"/>
                <a:ext cx="1342440" cy="293760"/>
              </a:xfrm>
              <a:custGeom>
                <a:avLst/>
                <a:gdLst/>
                <a:ahLst/>
                <a:rect l="l" t="t" r="r" b="b"/>
                <a:pathLst>
                  <a:path w="1888" h="340">
                    <a:moveTo>
                      <a:pt x="234" y="0"/>
                    </a:moveTo>
                    <a:lnTo>
                      <a:pt x="1660" y="0"/>
                    </a:lnTo>
                    <a:lnTo>
                      <a:pt x="1886" y="309"/>
                    </a:lnTo>
                    <a:lnTo>
                      <a:pt x="1888" y="323"/>
                    </a:lnTo>
                    <a:lnTo>
                      <a:pt x="1880" y="336"/>
                    </a:lnTo>
                    <a:lnTo>
                      <a:pt x="1865" y="340"/>
                    </a:lnTo>
                    <a:lnTo>
                      <a:pt x="27" y="340"/>
                    </a:lnTo>
                    <a:lnTo>
                      <a:pt x="8" y="334"/>
                    </a:lnTo>
                    <a:lnTo>
                      <a:pt x="0" y="319"/>
                    </a:lnTo>
                    <a:lnTo>
                      <a:pt x="4" y="302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013760" y="2573280"/>
                <a:ext cx="892800" cy="188280"/>
              </a:xfrm>
              <a:custGeom>
                <a:avLst/>
                <a:gdLst/>
                <a:ahLst/>
                <a:rect l="l" t="t" r="r" b="b"/>
                <a:pathLst>
                  <a:path w="1256" h="218">
                    <a:moveTo>
                      <a:pt x="169" y="0"/>
                    </a:moveTo>
                    <a:lnTo>
                      <a:pt x="1197" y="0"/>
                    </a:lnTo>
                    <a:lnTo>
                      <a:pt x="1256" y="218"/>
                    </a:lnTo>
                    <a:lnTo>
                      <a:pt x="0" y="218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934640" y="2573280"/>
                <a:ext cx="270000" cy="188280"/>
              </a:xfrm>
              <a:custGeom>
                <a:avLst/>
                <a:gdLst/>
                <a:ahLst/>
                <a:rect l="l" t="t" r="r" b="b"/>
                <a:pathLst>
                  <a:path w="380" h="218">
                    <a:moveTo>
                      <a:pt x="0" y="0"/>
                    </a:moveTo>
                    <a:lnTo>
                      <a:pt x="225" y="0"/>
                    </a:lnTo>
                    <a:lnTo>
                      <a:pt x="380" y="218"/>
                    </a:lnTo>
                    <a:lnTo>
                      <a:pt x="71" y="2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>
              <a:off x="1166040" y="1784520"/>
              <a:ext cx="894600" cy="715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288800" y="1883160"/>
              <a:ext cx="649080" cy="493560"/>
            </a:xfrm>
            <a:prstGeom prst="rect">
              <a:avLst/>
            </a:prstGeom>
            <a:solidFill>
              <a:srgbClr val="105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856880" y="2420640"/>
              <a:ext cx="810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2341440" y="2174760"/>
            <a:ext cx="968400" cy="4557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Wireless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60640" y="24084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3311640" y="2093760"/>
            <a:ext cx="317520" cy="314280"/>
            <a:chOff x="3311640" y="2093760"/>
            <a:chExt cx="317520" cy="314280"/>
          </a:xfrm>
        </p:grpSpPr>
        <p:sp>
          <p:nvSpPr>
            <p:cNvPr id="728" name=""/>
            <p:cNvSpPr/>
            <p:nvPr/>
          </p:nvSpPr>
          <p:spPr>
            <a:xfrm flipH="1" flipV="1">
              <a:off x="3418200" y="210168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3311640" y="209376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623880" y="2908440"/>
            <a:ext cx="233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ate gyro, accelerometer, and star trac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665520" y="2308320"/>
            <a:ext cx="1631880" cy="371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627360" y="2152800"/>
            <a:ext cx="4651560" cy="488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197240" y="2619360"/>
            <a:ext cx="90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yro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417840" y="3322800"/>
            <a:ext cx="1057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 tracker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3611160" y="2095560"/>
            <a:ext cx="4761000" cy="479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48560" y="2190600"/>
            <a:ext cx="45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3664080" y="2243160"/>
            <a:ext cx="1676160" cy="3650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113440" y="2425680"/>
            <a:ext cx="45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495680" y="3413160"/>
            <a:ext cx="45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 flipV="1">
            <a:off x="3611520" y="2331720"/>
            <a:ext cx="1773360" cy="2421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598920" y="2416320"/>
            <a:ext cx="1738080" cy="239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223040" y="3319560"/>
            <a:ext cx="1370160" cy="1127160"/>
          </a:xfrm>
          <a:prstGeom prst="roundRect">
            <a:avLst>
              <a:gd name="adj" fmla="val 2968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473800" y="3319560"/>
            <a:ext cx="1369800" cy="1127160"/>
          </a:xfrm>
          <a:prstGeom prst="roundRect">
            <a:avLst>
              <a:gd name="adj" fmla="val 2968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621400" y="3535200"/>
            <a:ext cx="1066680" cy="779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yro 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373880" y="3535200"/>
            <a:ext cx="1066680" cy="779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l 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668920" y="2741760"/>
            <a:ext cx="968400" cy="4554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Wireless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919840" y="3209760"/>
            <a:ext cx="469800" cy="19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999040" y="3405240"/>
            <a:ext cx="312840" cy="129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423200" y="2741760"/>
            <a:ext cx="968400" cy="4554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Wireless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672320" y="3209760"/>
            <a:ext cx="469800" cy="19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5351400" y="2693880"/>
            <a:ext cx="317520" cy="314280"/>
            <a:chOff x="5351400" y="2693880"/>
            <a:chExt cx="317520" cy="314280"/>
          </a:xfrm>
        </p:grpSpPr>
        <p:sp>
          <p:nvSpPr>
            <p:cNvPr id="752" name=""/>
            <p:cNvSpPr/>
            <p:nvPr/>
          </p:nvSpPr>
          <p:spPr>
            <a:xfrm flipV="1">
              <a:off x="5351400" y="270180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460840" y="269388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8402760" y="2693880"/>
            <a:ext cx="317520" cy="314280"/>
            <a:chOff x="8402760" y="2693880"/>
            <a:chExt cx="317520" cy="314280"/>
          </a:xfrm>
        </p:grpSpPr>
        <p:sp>
          <p:nvSpPr>
            <p:cNvPr id="755" name=""/>
            <p:cNvSpPr/>
            <p:nvPr/>
          </p:nvSpPr>
          <p:spPr>
            <a:xfrm flipH="1" flipV="1">
              <a:off x="8509320" y="270180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8402760" y="269388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7751880" y="3405240"/>
            <a:ext cx="312480" cy="129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514840" y="5500800"/>
            <a:ext cx="1370160" cy="1127160"/>
          </a:xfrm>
          <a:prstGeom prst="roundRect">
            <a:avLst>
              <a:gd name="adj" fmla="val 2968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662440" y="5716440"/>
            <a:ext cx="1067040" cy="779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r Tracker 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710320" y="4923000"/>
            <a:ext cx="968400" cy="4554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Wireless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961240" y="5391000"/>
            <a:ext cx="469800" cy="19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040440" y="5586480"/>
            <a:ext cx="312840" cy="129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5392800" y="4875120"/>
            <a:ext cx="317520" cy="314280"/>
            <a:chOff x="5392800" y="4875120"/>
            <a:chExt cx="317520" cy="314280"/>
          </a:xfrm>
        </p:grpSpPr>
        <p:sp>
          <p:nvSpPr>
            <p:cNvPr id="764" name=""/>
            <p:cNvSpPr/>
            <p:nvPr/>
          </p:nvSpPr>
          <p:spPr>
            <a:xfrm flipV="1">
              <a:off x="5392800" y="4883040"/>
              <a:ext cx="210960" cy="18072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502240" y="4875120"/>
              <a:ext cx="208080" cy="314280"/>
            </a:xfrm>
            <a:custGeom>
              <a:avLst/>
              <a:gdLst/>
              <a:ahLst/>
              <a:rect l="l" t="t" r="r" b="b"/>
              <a:pathLst>
                <a:path w="131" h="198">
                  <a:moveTo>
                    <a:pt x="0" y="0"/>
                  </a:moveTo>
                  <a:lnTo>
                    <a:pt x="0" y="198"/>
                  </a:lnTo>
                  <a:lnTo>
                    <a:pt x="131" y="1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6718320" y="2516040"/>
            <a:ext cx="77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e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204920" y="1969920"/>
            <a:ext cx="831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ost Comp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dware Proto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System%20before%20fault%20injection" descr=""/>
          <p:cNvPicPr/>
          <p:nvPr/>
        </p:nvPicPr>
        <p:blipFill>
          <a:blip r:embed="rId1"/>
          <a:stretch/>
        </p:blipFill>
        <p:spPr>
          <a:xfrm>
            <a:off x="914400" y="988920"/>
            <a:ext cx="7315200" cy="488016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558720" y="6087960"/>
            <a:ext cx="257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Generic Function Blo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1987560" y="4876920"/>
            <a:ext cx="0" cy="12319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1973160" y="4995720"/>
            <a:ext cx="2279880" cy="1100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1973160" y="4532040"/>
            <a:ext cx="4334040" cy="156204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807000" y="695160"/>
            <a:ext cx="14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Host Comp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46440" y="942840"/>
            <a:ext cx="0" cy="59544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017960" y="6087960"/>
            <a:ext cx="25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Arial"/>
              </a:rPr>
              <a:t>LED Displays Indicate All Blocks are Functio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2876400" y="4068720"/>
            <a:ext cx="2067120" cy="2067120"/>
          </a:xfrm>
          <a:prstGeom prst="line">
            <a:avLst/>
          </a:prstGeom>
          <a:ln w="2556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167440" y="4148280"/>
            <a:ext cx="1440" cy="2000160"/>
          </a:xfrm>
          <a:prstGeom prst="line">
            <a:avLst/>
          </a:prstGeom>
          <a:ln w="2556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5418000" y="3909600"/>
            <a:ext cx="1567080" cy="2212920"/>
          </a:xfrm>
          <a:prstGeom prst="line">
            <a:avLst/>
          </a:prstGeom>
          <a:ln w="2556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47800" y="228240"/>
            <a:ext cx="7448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ic Function Block Operations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ding &amp; Receiving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Block%20receiving%20data" descr=""/>
          <p:cNvPicPr/>
          <p:nvPr/>
        </p:nvPicPr>
        <p:blipFill>
          <a:blip r:embed="rId1"/>
          <a:stretch/>
        </p:blipFill>
        <p:spPr>
          <a:xfrm>
            <a:off x="914400" y="988920"/>
            <a:ext cx="7315200" cy="488016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>
            <a:off x="5062680" y="1762200"/>
            <a:ext cx="1033200" cy="331560"/>
          </a:xfrm>
          <a:prstGeom prst="ellipse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336920" y="611496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FP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4660920" y="3682800"/>
            <a:ext cx="4680" cy="23446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231040" y="2182680"/>
            <a:ext cx="9129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Wireless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7732800" y="2430360"/>
            <a:ext cx="542880" cy="1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897200" y="5945040"/>
            <a:ext cx="202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Daughter Board with Program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3054240" y="3267000"/>
            <a:ext cx="6480" cy="27036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445000" y="888840"/>
            <a:ext cx="3240" cy="8607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 of Ultra Long Life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95240" y="1636560"/>
            <a:ext cx="755352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vionics System Architectures That Will Enable Spacecraft to Last for More Than 5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14280" y="228240"/>
            <a:ext cx="851544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ic Function Block Operations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nomous Testing (Test Phas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Block%20Testing" descr=""/>
          <p:cNvPicPr/>
          <p:nvPr/>
        </p:nvPicPr>
        <p:blipFill>
          <a:blip r:embed="rId1"/>
          <a:stretch/>
        </p:blipFill>
        <p:spPr>
          <a:xfrm>
            <a:off x="914400" y="988920"/>
            <a:ext cx="7315200" cy="488016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5154480" y="1762200"/>
            <a:ext cx="1033560" cy="331560"/>
          </a:xfrm>
          <a:prstGeom prst="ellipse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737320" y="888840"/>
            <a:ext cx="3240" cy="8607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58800" y="228240"/>
            <a:ext cx="7826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ic Function Block Operations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nomous Testing (Diagnose Phas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Block%20Diagnosing" descr=""/>
          <p:cNvPicPr/>
          <p:nvPr/>
        </p:nvPicPr>
        <p:blipFill>
          <a:blip r:embed="rId1"/>
          <a:stretch/>
        </p:blipFill>
        <p:spPr>
          <a:xfrm>
            <a:off x="914400" y="988920"/>
            <a:ext cx="7315200" cy="488016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5048280" y="1365120"/>
            <a:ext cx="1033560" cy="331920"/>
          </a:xfrm>
          <a:prstGeom prst="ellipse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630760" y="888840"/>
            <a:ext cx="1800" cy="4636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 After Fault Inj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System%20after%20fault%20injection" descr=""/>
          <p:cNvPicPr/>
          <p:nvPr/>
        </p:nvPicPr>
        <p:blipFill>
          <a:blip r:embed="rId1"/>
          <a:stretch/>
        </p:blipFill>
        <p:spPr>
          <a:xfrm>
            <a:off x="914400" y="988920"/>
            <a:ext cx="7315200" cy="488016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2400480" y="5956200"/>
            <a:ext cx="25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Arial"/>
              </a:rPr>
              <a:t>LED Displays Indicate these Generic Function Blocks are Functioning Norm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 flipV="1">
            <a:off x="2876400" y="4068720"/>
            <a:ext cx="866880" cy="1920960"/>
          </a:xfrm>
          <a:prstGeom prst="line">
            <a:avLst/>
          </a:prstGeom>
          <a:ln w="2556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4000680" y="4147920"/>
            <a:ext cx="1168200" cy="1834920"/>
          </a:xfrm>
          <a:prstGeom prst="line">
            <a:avLst/>
          </a:prstGeom>
          <a:ln w="2556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6981840" y="3909600"/>
            <a:ext cx="3240" cy="2095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511960" y="5969160"/>
            <a:ext cx="309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Generic Function Block lost Power, LED Display Disappea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een Display After Fault Inj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Screen%20after%20fault%20injected" descr=""/>
          <p:cNvPicPr/>
          <p:nvPr/>
        </p:nvPicPr>
        <p:blipFill>
          <a:blip r:embed="rId1"/>
          <a:stretch/>
        </p:blipFill>
        <p:spPr>
          <a:xfrm>
            <a:off x="914400" y="988920"/>
            <a:ext cx="7315200" cy="488016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/>
          <p:nvPr/>
        </p:nvSpPr>
        <p:spPr>
          <a:xfrm>
            <a:off x="0" y="2630520"/>
            <a:ext cx="93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ault Dete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782640" y="2463480"/>
            <a:ext cx="2674800" cy="398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881360" y="6035760"/>
            <a:ext cx="38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Upstream Healthy Generic Function Block Takes Over Tasks of the Failed Bloc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3843360" y="4001760"/>
            <a:ext cx="0" cy="2041560"/>
          </a:xfrm>
          <a:prstGeom prst="line">
            <a:avLst/>
          </a:prstGeom>
          <a:ln w="255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 After Failed Block Recover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System%20after%20fault%20recovery" descr=""/>
          <p:cNvPicPr/>
          <p:nvPr/>
        </p:nvPicPr>
        <p:blipFill>
          <a:blip r:embed="rId1"/>
          <a:stretch/>
        </p:blipFill>
        <p:spPr>
          <a:xfrm>
            <a:off x="914400" y="988920"/>
            <a:ext cx="7315200" cy="488016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3763800" y="6049800"/>
            <a:ext cx="503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Power of the Failed Generic Function Block Resumes.  LED Display Indicates the Block is Functioning Normally Aga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7115040" y="4097160"/>
            <a:ext cx="3240" cy="19432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89080" y="228240"/>
            <a:ext cx="856584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een Display After Failed Block Recover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Screen%20after%20fault%20recovery" descr=""/>
          <p:cNvPicPr/>
          <p:nvPr/>
        </p:nvPicPr>
        <p:blipFill>
          <a:blip r:embed="rId1"/>
          <a:stretch/>
        </p:blipFill>
        <p:spPr>
          <a:xfrm>
            <a:off x="895320" y="976320"/>
            <a:ext cx="7353360" cy="490536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542880" y="6010200"/>
            <a:ext cx="218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ailed Generic Function Block Recove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1297080" y="3354480"/>
            <a:ext cx="2386080" cy="28144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e and Deliver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79440" y="882720"/>
            <a:ext cx="844848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22840" indent="-22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 Deliverabl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2680" indent="-221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ual Design Spec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2680" indent="-221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type Inclu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3600" indent="-223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block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03600" indent="-223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reless inter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03600" indent="-223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ware development for navigator and autonomous testing func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2680" indent="-221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onst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2680" indent="-221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298440" y="3668760"/>
          <a:ext cx="8643960" cy="300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3668760"/>
                    <a:ext cx="864396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3" name=""/>
          <p:cNvSpPr/>
          <p:nvPr/>
        </p:nvSpPr>
        <p:spPr>
          <a:xfrm>
            <a:off x="4522680" y="4119480"/>
            <a:ext cx="957240" cy="158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497560" y="4729320"/>
            <a:ext cx="1519200" cy="158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497560" y="5033880"/>
            <a:ext cx="1519200" cy="158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497560" y="5338800"/>
            <a:ext cx="1519200" cy="158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021440" y="5634000"/>
            <a:ext cx="70020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525920" y="5938920"/>
            <a:ext cx="320508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745400" y="6243480"/>
            <a:ext cx="19044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572240" y="3695760"/>
            <a:ext cx="0" cy="2708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538520" y="5951520"/>
            <a:ext cx="3044880" cy="146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029360" y="5640480"/>
            <a:ext cx="689040" cy="14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756560" y="6249960"/>
            <a:ext cx="9828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12640" y="801360"/>
            <a:ext cx="811872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ystem of three Generic Function Blocks and a host computer has been constructed.  The host computer contains the sensor simulations and utilities to facilitate the communication among the Generic Function Blocks.  Each Generic Function Block incl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lank Field Programmable Gate Array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ireless trans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ustom-built daughter board for 32 Kbytes program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integration and testing of the Generic Function Block, wireless interface, and autonomous testing &amp; recovery software is complete.  The integration of the navigation function is nearly compl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ion will be ready in one to two weeks.  The overall progress is slightly ahead of sche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54040" y="228240"/>
            <a:ext cx="803592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sons for Ultra Long Life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882720"/>
            <a:ext cx="7772400" cy="54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the costs of maintaining communication satellit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frequency to replace failed satell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costs due to down time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long term Solar System exploration at reasonable cost. 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s Long-lived Lander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iper Belt-Pluto Explorer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missions such as Kuiper Belt Objects Sample Return or interstellar space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the ultra long life design techniques to shorter missions that require ultra high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8640" y="147600"/>
            <a:ext cx="7686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ations of State-of-the-ar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ult- Tolerant System Archite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517760"/>
            <a:ext cx="8064720" cy="48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-of-the-art fault-tolerant system architectures are not adequate for ultra long life 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systems are designed to handle random failures but not capable to handle aging failures, which most likely is the primary failure modes in ultra long life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systems require more redundant components than necessary, so that the number of redundant components required for ultra long life mission is prohib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-of-the-Art Fault Tolerance Appro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366280" y="1457280"/>
            <a:ext cx="1444680" cy="500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3760" y="3962520"/>
            <a:ext cx="1703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38360" y="2440080"/>
            <a:ext cx="1100160" cy="6760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38360" y="1655640"/>
            <a:ext cx="1100160" cy="6764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44840" y="98568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02760" y="98568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99520" y="34257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str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38360" y="4797360"/>
            <a:ext cx="1100160" cy="67644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38360" y="4010040"/>
            <a:ext cx="1101600" cy="67788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38360" y="3225960"/>
            <a:ext cx="1100160" cy="67608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itu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38360" y="5583240"/>
            <a:ext cx="1100160" cy="67644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i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rument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680080" y="1655640"/>
            <a:ext cx="1101600" cy="4604040"/>
            <a:chOff x="5680080" y="1655640"/>
            <a:chExt cx="1101600" cy="4604040"/>
          </a:xfrm>
        </p:grpSpPr>
        <p:sp>
          <p:nvSpPr>
            <p:cNvPr id="64" name=""/>
            <p:cNvSpPr/>
            <p:nvPr/>
          </p:nvSpPr>
          <p:spPr>
            <a:xfrm>
              <a:off x="5680080" y="2440080"/>
              <a:ext cx="1100160" cy="67608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80080" y="1655640"/>
              <a:ext cx="1100160" cy="67644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80080" y="4797360"/>
              <a:ext cx="1100160" cy="676440"/>
            </a:xfrm>
            <a:prstGeom prst="rect">
              <a:avLst/>
            </a:prstGeom>
            <a:solidFill>
              <a:srgbClr val="ff99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w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rol 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80080" y="4010040"/>
              <a:ext cx="1101600" cy="67788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lecom 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80080" y="3225960"/>
              <a:ext cx="1100160" cy="67608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titu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rol 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680080" y="5583240"/>
              <a:ext cx="1100160" cy="676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ienc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strument 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5508000" y="1457280"/>
            <a:ext cx="1444680" cy="5000760"/>
          </a:xfrm>
          <a:prstGeom prst="rect">
            <a:avLst/>
          </a:prstGeom>
          <a:solidFill>
            <a:srgbClr val="8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-of-the-Art Fault Tolerance Appro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366280" y="1457280"/>
            <a:ext cx="1444680" cy="500076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3760" y="3962520"/>
            <a:ext cx="1703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91080" y="985680"/>
            <a:ext cx="21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59800" y="98568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up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99520" y="34257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str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517840" y="1655640"/>
            <a:ext cx="1122120" cy="4604040"/>
            <a:chOff x="2517840" y="1655640"/>
            <a:chExt cx="1122120" cy="4604040"/>
          </a:xfrm>
        </p:grpSpPr>
        <p:sp>
          <p:nvSpPr>
            <p:cNvPr id="78" name=""/>
            <p:cNvSpPr/>
            <p:nvPr/>
          </p:nvSpPr>
          <p:spPr>
            <a:xfrm>
              <a:off x="2538360" y="2440080"/>
              <a:ext cx="1100160" cy="67608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38360" y="1655640"/>
              <a:ext cx="1100160" cy="67644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44840" y="1670040"/>
              <a:ext cx="1082520" cy="6253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517840" y="1722240"/>
              <a:ext cx="1082520" cy="6253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38360" y="4797360"/>
              <a:ext cx="1100160" cy="676440"/>
            </a:xfrm>
            <a:prstGeom prst="rect">
              <a:avLst/>
            </a:prstGeom>
            <a:solidFill>
              <a:srgbClr val="ff99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w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rol 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38360" y="4010040"/>
              <a:ext cx="1101600" cy="67788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le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38360" y="3225960"/>
              <a:ext cx="1100160" cy="67608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titu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rol 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38360" y="5583240"/>
              <a:ext cx="1100160" cy="676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ienc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strument 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508360" y="1457280"/>
            <a:ext cx="1444680" cy="5000760"/>
            <a:chOff x="5508360" y="1457280"/>
            <a:chExt cx="1444680" cy="5000760"/>
          </a:xfrm>
        </p:grpSpPr>
        <p:grpSp>
          <p:nvGrpSpPr>
            <p:cNvPr id="87" name=""/>
            <p:cNvGrpSpPr/>
            <p:nvPr/>
          </p:nvGrpSpPr>
          <p:grpSpPr>
            <a:xfrm>
              <a:off x="5680080" y="1655640"/>
              <a:ext cx="1101600" cy="4604040"/>
              <a:chOff x="5680080" y="1655640"/>
              <a:chExt cx="1101600" cy="4604040"/>
            </a:xfrm>
          </p:grpSpPr>
          <p:sp>
            <p:nvSpPr>
              <p:cNvPr id="88" name=""/>
              <p:cNvSpPr/>
              <p:nvPr/>
            </p:nvSpPr>
            <p:spPr>
              <a:xfrm>
                <a:off x="5680080" y="2440080"/>
                <a:ext cx="1100160" cy="676080"/>
              </a:xfrm>
              <a:prstGeom prst="rect">
                <a:avLst/>
              </a:prstGeom>
              <a:solidFill>
                <a:srgbClr val="ff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emor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680080" y="1655640"/>
                <a:ext cx="1100160" cy="676440"/>
              </a:xfrm>
              <a:prstGeom prst="rect">
                <a:avLst/>
              </a:prstGeom>
              <a:solidFill>
                <a:srgbClr val="ff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cess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680080" y="4797360"/>
                <a:ext cx="1100160" cy="676440"/>
              </a:xfrm>
              <a:prstGeom prst="rect">
                <a:avLst/>
              </a:prstGeom>
              <a:solidFill>
                <a:srgbClr val="ff99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ower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trol Interfa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680080" y="4010040"/>
                <a:ext cx="1101600" cy="67788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lecom Interfa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680080" y="3225960"/>
                <a:ext cx="1100160" cy="676080"/>
              </a:xfrm>
              <a:prstGeom prst="rect">
                <a:avLst/>
              </a:prstGeom>
              <a:solidFill>
                <a:srgbClr val="66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ttitude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trol Interfa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680080" y="5583240"/>
                <a:ext cx="1100160" cy="676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cience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nstrument Interfa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 flipH="1">
              <a:off x="5508000" y="1457280"/>
              <a:ext cx="1444680" cy="500076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514480" y="1463760"/>
            <a:ext cx="1444680" cy="5000400"/>
            <a:chOff x="5514480" y="1463760"/>
            <a:chExt cx="1444680" cy="5000400"/>
          </a:xfrm>
        </p:grpSpPr>
        <p:sp>
          <p:nvSpPr>
            <p:cNvPr id="96" name=""/>
            <p:cNvSpPr/>
            <p:nvPr/>
          </p:nvSpPr>
          <p:spPr>
            <a:xfrm flipH="1">
              <a:off x="5514120" y="1463760"/>
              <a:ext cx="1444680" cy="5000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5686560" y="1662120"/>
              <a:ext cx="1101600" cy="4603320"/>
              <a:chOff x="5686560" y="1662120"/>
              <a:chExt cx="1101600" cy="4603320"/>
            </a:xfrm>
          </p:grpSpPr>
          <p:sp>
            <p:nvSpPr>
              <p:cNvPr id="98" name=""/>
              <p:cNvSpPr/>
              <p:nvPr/>
            </p:nvSpPr>
            <p:spPr>
              <a:xfrm>
                <a:off x="5686560" y="2446200"/>
                <a:ext cx="1100160" cy="675720"/>
              </a:xfrm>
              <a:prstGeom prst="rect">
                <a:avLst/>
              </a:prstGeom>
              <a:solidFill>
                <a:srgbClr val="ff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emor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686560" y="1662120"/>
                <a:ext cx="1100160" cy="676080"/>
              </a:xfrm>
              <a:prstGeom prst="rect">
                <a:avLst/>
              </a:prstGeom>
              <a:solidFill>
                <a:srgbClr val="ff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cess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686560" y="4803480"/>
                <a:ext cx="1100160" cy="676080"/>
              </a:xfrm>
              <a:prstGeom prst="rect">
                <a:avLst/>
              </a:prstGeom>
              <a:solidFill>
                <a:srgbClr val="ff99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ower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trol Interfa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686560" y="4016160"/>
                <a:ext cx="1101600" cy="67752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lecom Interfa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686560" y="3232080"/>
                <a:ext cx="1100160" cy="675720"/>
              </a:xfrm>
              <a:prstGeom prst="rect">
                <a:avLst/>
              </a:prstGeom>
              <a:solidFill>
                <a:srgbClr val="66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ttitude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trol Interfa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686560" y="5589360"/>
                <a:ext cx="1100160" cy="67608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cience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nstrument Interfa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 flipH="1">
            <a:off x="2373480" y="1461960"/>
            <a:ext cx="1444320" cy="5000760"/>
          </a:xfrm>
          <a:prstGeom prst="rect">
            <a:avLst/>
          </a:prstGeom>
          <a:solidFill>
            <a:srgbClr val="8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-of-the-Art Fault Tolerance Appro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3760" y="3962520"/>
            <a:ext cx="1703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38360" y="2440080"/>
            <a:ext cx="1100160" cy="6760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38360" y="1655640"/>
            <a:ext cx="1100160" cy="6764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38360" y="4797360"/>
            <a:ext cx="1100160" cy="67644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38360" y="4010040"/>
            <a:ext cx="1101600" cy="67788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38360" y="3225960"/>
            <a:ext cx="1100160" cy="67608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itu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38360" y="5583240"/>
            <a:ext cx="1100160" cy="67644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i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rument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80080" y="2440080"/>
            <a:ext cx="1100160" cy="6760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80080" y="1655640"/>
            <a:ext cx="1100160" cy="6764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80080" y="4797360"/>
            <a:ext cx="1100160" cy="67644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80080" y="4010040"/>
            <a:ext cx="1101600" cy="67788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lecom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80080" y="3225960"/>
            <a:ext cx="1100160" cy="67608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itu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80080" y="5583240"/>
            <a:ext cx="1100160" cy="67644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i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rument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46640" y="98568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04200" y="98568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99520" y="34257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str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44840" y="1670040"/>
            <a:ext cx="1082520" cy="625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17840" y="1722240"/>
            <a:ext cx="1082520" cy="625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02400" y="1670040"/>
            <a:ext cx="1082520" cy="625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75400" y="1722240"/>
            <a:ext cx="1082520" cy="625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569960" y="988920"/>
            <a:ext cx="6186600" cy="5134680"/>
            <a:chOff x="1569960" y="988920"/>
            <a:chExt cx="6186600" cy="5134680"/>
          </a:xfrm>
        </p:grpSpPr>
        <p:sp>
          <p:nvSpPr>
            <p:cNvPr id="127" name=""/>
            <p:cNvSpPr/>
            <p:nvPr/>
          </p:nvSpPr>
          <p:spPr>
            <a:xfrm>
              <a:off x="1569960" y="2627280"/>
              <a:ext cx="70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Go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69960" y="3416400"/>
              <a:ext cx="70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Go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69960" y="4206960"/>
              <a:ext cx="70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Go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69960" y="4995720"/>
              <a:ext cx="70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Go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69960" y="5786280"/>
              <a:ext cx="70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Go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48440" y="2627280"/>
              <a:ext cx="70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Go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48440" y="3416400"/>
              <a:ext cx="70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Go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48440" y="4206960"/>
              <a:ext cx="70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Go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48440" y="4995720"/>
              <a:ext cx="70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Go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48440" y="5786280"/>
              <a:ext cx="70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Go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97280" y="988920"/>
              <a:ext cx="173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System Fai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H="1">
            <a:off x="2366280" y="1457280"/>
            <a:ext cx="1444680" cy="5000760"/>
          </a:xfrm>
          <a:prstGeom prst="rect">
            <a:avLst/>
          </a:prstGeom>
          <a:solidFill>
            <a:srgbClr val="8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508000" y="1457280"/>
            <a:ext cx="1444680" cy="5000760"/>
          </a:xfrm>
          <a:prstGeom prst="rect">
            <a:avLst/>
          </a:prstGeom>
          <a:solidFill>
            <a:srgbClr val="8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 of This resear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5640" y="988560"/>
            <a:ext cx="817272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evelop unconventional system architectures and design techniques that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9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y efficient in fault recovery, so that much less redundant components are required to sustain ultra long life 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9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y efficient in fault detection, so that no need to use duplicate-and-compare or voting to detect failed compon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01:18:18Z</dcterms:created>
  <dc:creator>Savio Chau</dc:creator>
  <dc:description/>
  <dc:language>en-US</dc:language>
  <cp:lastModifiedBy>schau</cp:lastModifiedBy>
  <dcterms:modified xsi:type="dcterms:W3CDTF">2002-09-01T02:33:41Z</dcterms:modified>
  <cp:revision>191</cp:revision>
  <dc:subject/>
  <dc:title>Highly Reconfigurable System Experiment</dc:title>
</cp:coreProperties>
</file>